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9.wmf" ContentType="image/x-wmf"/>
  <Override PartName="/ppt/media/image35.jpeg" ContentType="image/jpeg"/>
  <Override PartName="/ppt/media/image13.wmf" ContentType="image/x-wmf"/>
  <Override PartName="/ppt/media/image36.png" ContentType="image/png"/>
  <Override PartName="/ppt/media/image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8.png" ContentType="image/png"/>
  <Override PartName="/ppt/media/image39.jpeg" ContentType="image/jpeg"/>
  <Override PartName="/ppt/media/image41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3.wmf" ContentType="image/x-wmf"/>
  <Override PartName="/ppt/media/image37.gif" ContentType="image/gi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47F1-0883-42BD-BAE9-7EB596CA9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Resonansi : struktur yang dapat dituliskan dalam bentuk dua/lebih untuk 1 molekul dengan susunan elektron yang berbeda, namun susunan atomnya identi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6364-51A4-4198-8DB0-6E4E1A2766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2-dimethylpropano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methyl-3-buteno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 buty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methylpentano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-nitrobenzo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F679-3C35-4E34-8FFE-66C9034D7B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80B-4A26-495A-993D-12199C83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08D-91D2-4E88-B501-B7090E16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323-D088-4DB8-A3C3-713A0B28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BD6-15CA-4DF8-9B3F-C9D2941A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3771-3A15-43AF-9288-2BC74138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B52-22B3-42AE-B059-BBFA581C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C548-3610-46D9-A80A-0B4CB9E6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D727-59A2-40E8-A07F-573B930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C22B-1FF1-464E-ADA1-1A5085F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5921-56CE-426E-A0B0-499F7E70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7E9E-3841-4750-9B39-C4118B28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8C5-E519-4EA3-958B-129E9C0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A849-3AD5-417D-B4E8-23AED3F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8D9B-B49E-420F-AB3C-B622FD1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A31A-6341-4C76-86F0-E83BCB4D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3AA8-0578-4272-A80E-51AAF614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E9F5-DA5D-4C4D-9D1C-1BA27C8F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4E193-1D6E-489F-8EB9-C26DCA4B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12ABB-299B-430D-9256-C3B899F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31BD8-72BF-418D-9A09-B6474AEC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DD6F3-4DA9-4D37-AD47-1C396441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293AA-B46F-445A-94C4-DD63AB56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1C6-224B-4B7B-8076-1C769473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94E36-0E84-4828-8774-98A4E694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886DC-A5D2-4CA1-8B09-71FDFD3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04FA9-371F-4DDD-AD2A-75024A2A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FAFA2-BF1C-4820-8DF7-1C7804E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3483D-EFB9-420B-9734-6E3B3AD7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328E2-AC12-47E1-83FF-367888D7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EF4EA-B6C9-4F72-AFD9-C2BDB726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9BD-C06F-4AF6-9B7A-C4483F1A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0C7-2838-453F-B1F2-B90E966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32D-7848-457D-9217-2951453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97A-6657-4D72-8621-009EF8B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193-B4E0-46E7-B7EF-EA634358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04F-1ADB-4953-B5E9-D60E170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A3CE-076A-4FEE-B180-278FAED2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47AC-296E-49C9-A55B-EEF92BD1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0085-BD01-4938-A81E-A6AA66EFD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ASAM KARBOKSIL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kripsi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Verdana"/>
              </a:rPr>
              <a:t>Struktur, tata nama, penggolongan dan manfaat asam karboksila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katan hidrogen yang terbentuk &gt; ikatan hidrogen pada alkohol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itik didih asam karboksilat &gt; titik didih alkohol yang Mr s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am karboksilat mampu membentuk ikatan hidrogen dengan ai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mudah larut dalam ai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905120" y="2971800"/>
          <a:ext cx="601956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971800"/>
                    <a:ext cx="60195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2286000" y="4952880"/>
          <a:ext cx="3581280" cy="112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952880"/>
                    <a:ext cx="358128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asaman Asam Karboksil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am karboksilat terionisasi di dalam air membentuk larutan yang bersifat sedikit as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easaman asam karboksila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asam-asam anorganik karena asam karboksilat terionisasi sebagian di dalam ai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asam lema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1295280" y="3600360"/>
          <a:ext cx="655344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00360"/>
                    <a:ext cx="65534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Object 6"/>
          <p:cNvGraphicFramePr/>
          <p:nvPr/>
        </p:nvGraphicFramePr>
        <p:xfrm>
          <a:off x="2819520" y="5181480"/>
          <a:ext cx="365760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5181480"/>
                    <a:ext cx="3657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66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banding dengan alkohol, Ka asam karboksilat lebih besa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karena asam karboksilat dapat beresonansi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am karboksilat dapat bereaksi dengan basa (NaOH) membentuk garam karboksil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09680" y="1514520"/>
          <a:ext cx="388620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14520"/>
                    <a:ext cx="38862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1757520" y="4329000"/>
          <a:ext cx="5938560" cy="243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7520" y="4329000"/>
                    <a:ext cx="593856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tih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10158" t="68674" r="71096" b="16668"/>
          <a:stretch/>
        </p:blipFill>
        <p:spPr>
          <a:xfrm>
            <a:off x="1143000" y="3124080"/>
            <a:ext cx="2825640" cy="129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rcRect l="10936" t="70003" r="68752" b="10003"/>
          <a:stretch/>
        </p:blipFill>
        <p:spPr>
          <a:xfrm>
            <a:off x="1209600" y="4648320"/>
            <a:ext cx="2905200" cy="167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rcRect l="10936" t="52668" r="71878" b="22003"/>
          <a:stretch/>
        </p:blipFill>
        <p:spPr>
          <a:xfrm>
            <a:off x="4724280" y="1447920"/>
            <a:ext cx="2438640" cy="210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4"/>
          <a:srcRect l="30469" t="46003" r="57816" b="30003"/>
          <a:stretch/>
        </p:blipFill>
        <p:spPr>
          <a:xfrm>
            <a:off x="5334120" y="3657600"/>
            <a:ext cx="1752480" cy="21034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1660680" y="2209680"/>
            <a:ext cx="22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H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-COO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91440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99072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1066680" y="5268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3434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34340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ri nama garam karboksilat 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1295280" y="2438280"/>
          <a:ext cx="708660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08660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mbuatan Asam Karboksil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am karboksilat dapat disintesis atau dibuat mela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berapa cara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Oksidasi alkohol primer dan aldehid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1295280" y="2971800"/>
          <a:ext cx="716292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716292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837720"/>
            <a:ext cx="73134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2. Oksidasi alkena RCH </a:t>
            </a:r>
            <a:r>
              <a:rPr b="0" lang="en-US" sz="2700" spc="-1" strike="noStrike">
                <a:solidFill>
                  <a:srgbClr val="006666"/>
                </a:solidFill>
                <a:latin typeface="Symbol"/>
                <a:ea typeface="Symbol"/>
              </a:rPr>
              <a:t></a:t>
            </a: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 HR dan R2C </a:t>
            </a:r>
            <a:r>
              <a:rPr b="0" lang="en-US" sz="2700" spc="-1" strike="noStrike">
                <a:solidFill>
                  <a:srgbClr val="006666"/>
                </a:solidFill>
                <a:latin typeface="Symbol"/>
                <a:ea typeface="Symbol"/>
              </a:rPr>
              <a:t></a:t>
            </a: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 CHR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693720" y="2133720"/>
          <a:ext cx="821232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2133720"/>
                    <a:ext cx="821232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3. Oksidasi gugus alkil pada cincin benze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berapa panjangpun gugus alkil, akan didegrada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jadi gugus karboksilat benzoat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523880" y="1676520"/>
          <a:ext cx="586764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58676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eberapa Reaksi Asam Karboksil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Reduks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1828800" y="2286000"/>
          <a:ext cx="60958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60958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2. Dekarboksilasi asam </a:t>
            </a:r>
            <a:r>
              <a:rPr b="0" lang="en-US" sz="2400" spc="-1" strike="noStrike">
                <a:solidFill>
                  <a:srgbClr val="0066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- keton dan </a:t>
            </a:r>
            <a:r>
              <a:rPr b="0" lang="en-US" sz="2400" spc="-1" strike="noStrike">
                <a:solidFill>
                  <a:srgbClr val="0066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- dikarboksilat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ksi dekarboksilasi ini khusus hanya terjadi pada asam karboksilat yang mempunyai gugu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ket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23880" y="3124080"/>
          <a:ext cx="670572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70572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7"/>
          <p:cNvSpPr/>
          <p:nvPr/>
        </p:nvSpPr>
        <p:spPr>
          <a:xfrm>
            <a:off x="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FINISI ASAM KARBOKSIL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yawa yang mempunyai satu gugus karbonil yang berikatan dengan satu gugus hidroksil yang disebut dengan “gugus karboksil” (karbonil + hidroksil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3581280" y="4648320"/>
          <a:ext cx="182880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648320"/>
                    <a:ext cx="18288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kanis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371600" y="1486080"/>
          <a:ext cx="5562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86080"/>
                    <a:ext cx="5562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8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3" name="Object 7"/>
          <p:cNvGraphicFramePr/>
          <p:nvPr/>
        </p:nvGraphicFramePr>
        <p:xfrm>
          <a:off x="1371600" y="4726080"/>
          <a:ext cx="403848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6080"/>
                    <a:ext cx="403848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3. Asam Lemak/Hidrolisi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mak/minyak dihidrolisis menghasilkan asam karboksi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762120" y="3048120"/>
          <a:ext cx="7694640" cy="28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8120"/>
                    <a:ext cx="769464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URUNAN AS.KARBOKSIL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67652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lida asam karboksi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hidrida karboksi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mi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itr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4191120" y="1371600"/>
            <a:ext cx="2286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ST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67652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ruktur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b2b2"/>
                </a:solidFill>
                <a:latin typeface="Verdana"/>
              </a:rPr>
              <a:t>Tata Nama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Verdana"/>
              </a:rPr>
              <a:t>Diawali dengan nama gugus alkil yang terikat pada atom oksig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Verdana"/>
              </a:rPr>
              <a:t>Diikuti dengan nama asam karboksilat dengan menghilangkan kata asa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Object 2"/>
          <p:cNvGraphicFramePr/>
          <p:nvPr/>
        </p:nvGraphicFramePr>
        <p:xfrm>
          <a:off x="4267080" y="1447920"/>
          <a:ext cx="1981440" cy="14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447920"/>
                    <a:ext cx="198144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arbdrv1"/>
          <p:cNvPicPr/>
          <p:nvPr/>
        </p:nvPicPr>
        <p:blipFill>
          <a:blip r:embed="rId1"/>
          <a:stretch/>
        </p:blipFill>
        <p:spPr>
          <a:xfrm>
            <a:off x="244440" y="2884320"/>
            <a:ext cx="8747280" cy="28306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3"/>
          <p:cNvSpPr/>
          <p:nvPr/>
        </p:nvSpPr>
        <p:spPr>
          <a:xfrm>
            <a:off x="1828800" y="1066680"/>
            <a:ext cx="6477120" cy="838440"/>
          </a:xfrm>
          <a:prstGeom prst="roundRect">
            <a:avLst>
              <a:gd name="adj" fmla="val 16667"/>
            </a:avLst>
          </a:prstGeom>
          <a:solidFill>
            <a:srgbClr val="9ab9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BOXYLIC ACID DERIV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04920" y="306000"/>
            <a:ext cx="80769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atanama turunan asam karboksilat yang l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4920" y="1371600"/>
          <a:ext cx="8534160" cy="5257800"/>
        </p:xfrm>
        <a:graphic>
          <a:graphicData uri="http://schemas.openxmlformats.org/drawingml/2006/table">
            <a:tbl>
              <a:tblPr/>
              <a:tblGrid>
                <a:gridCol w="3504960"/>
                <a:gridCol w="2895840"/>
                <a:gridCol w="2133360"/>
              </a:tblGrid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am etan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am ase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am benz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am  …. –at/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</a:tr>
              <a:tr h="13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anoil klo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etil klo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zoil klo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il klo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)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hidrida  etan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hidrida  ase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hidrida benz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hidrid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H</a:t>
                      </a:r>
                      <a:r>
                        <a:rPr b="1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3603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anam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cccc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81080"/>
                          <a:tab algn="l" pos="3603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etam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zam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m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aea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Object 2"/>
          <p:cNvGraphicFramePr/>
          <p:nvPr/>
        </p:nvGraphicFramePr>
        <p:xfrm>
          <a:off x="4572000" y="1752480"/>
          <a:ext cx="10666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52480"/>
                    <a:ext cx="10666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3"/>
          <p:cNvGraphicFramePr/>
          <p:nvPr/>
        </p:nvGraphicFramePr>
        <p:xfrm>
          <a:off x="4495680" y="3048120"/>
          <a:ext cx="106704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048120"/>
                    <a:ext cx="1067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4"/>
          <p:cNvGraphicFramePr/>
          <p:nvPr/>
        </p:nvGraphicFramePr>
        <p:xfrm>
          <a:off x="4267080" y="4419720"/>
          <a:ext cx="1905120" cy="87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4419720"/>
                    <a:ext cx="190512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5"/>
          <p:cNvGraphicFramePr/>
          <p:nvPr/>
        </p:nvGraphicFramePr>
        <p:xfrm>
          <a:off x="5105520" y="5486400"/>
          <a:ext cx="137160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5486400"/>
                    <a:ext cx="1371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"/>
          <p:cNvGrpSpPr/>
          <p:nvPr/>
        </p:nvGrpSpPr>
        <p:grpSpPr>
          <a:xfrm>
            <a:off x="0" y="-74520"/>
            <a:ext cx="9144000" cy="7007040"/>
            <a:chOff x="0" y="-74520"/>
            <a:chExt cx="9144000" cy="7007040"/>
          </a:xfrm>
        </p:grpSpPr>
        <p:pic>
          <p:nvPicPr>
            <p:cNvPr id="280" name="Picture 4" descr="D:\ppt bahan ajar\icon\download (9).jpg"/>
            <p:cNvPicPr/>
            <p:nvPr/>
          </p:nvPicPr>
          <p:blipFill>
            <a:blip r:embed="rId1"/>
            <a:stretch/>
          </p:blipFill>
          <p:spPr>
            <a:xfrm>
              <a:off x="0" y="-74520"/>
              <a:ext cx="9144000" cy="70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4"/>
            <p:cNvSpPr/>
            <p:nvPr/>
          </p:nvSpPr>
          <p:spPr>
            <a:xfrm>
              <a:off x="380880" y="60948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2490840" y="2000160"/>
            <a:ext cx="4162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2190600" y="1728720"/>
            <a:ext cx="476280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990720" y="1523880"/>
            <a:ext cx="6629400" cy="3429000"/>
          </a:xfrm>
          <a:prstGeom prst="roundRect">
            <a:avLst>
              <a:gd name="adj" fmla="val 8463"/>
            </a:avLst>
          </a:prstGeom>
          <a:solidFill>
            <a:srgbClr val="3c7777"/>
          </a:solidFill>
          <a:ln w="0">
            <a:noFill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3657600" y="2711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600" spc="-1" strike="noStrike">
                <a:solidFill>
                  <a:srgbClr val="ffffff"/>
                </a:solidFill>
                <a:latin typeface="Arial Black"/>
                <a:ea typeface="Arial"/>
              </a:rPr>
              <a:t>EST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38"/>
          <p:cNvSpPr/>
          <p:nvPr/>
        </p:nvSpPr>
        <p:spPr>
          <a:xfrm>
            <a:off x="1752480" y="2362320"/>
            <a:ext cx="1524240" cy="1523880"/>
          </a:xfrm>
          <a:prstGeom prst="ellipse">
            <a:avLst/>
          </a:prstGeom>
          <a:noFill/>
          <a:ln w="88920">
            <a:solidFill>
              <a:srgbClr val="f2f2f2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Oval 39"/>
          <p:cNvSpPr/>
          <p:nvPr/>
        </p:nvSpPr>
        <p:spPr>
          <a:xfrm>
            <a:off x="1981080" y="2590920"/>
            <a:ext cx="1067040" cy="1066680"/>
          </a:xfrm>
          <a:prstGeom prst="ellipse">
            <a:avLst/>
          </a:prstGeom>
          <a:noFill/>
          <a:ln w="111240">
            <a:solidFill>
              <a:srgbClr val="ffcc00">
                <a:alpha val="7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40"/>
          <p:cNvSpPr/>
          <p:nvPr/>
        </p:nvSpPr>
        <p:spPr>
          <a:xfrm>
            <a:off x="2209680" y="2819520"/>
            <a:ext cx="609840" cy="609480"/>
          </a:xfrm>
          <a:prstGeom prst="ellipse">
            <a:avLst/>
          </a:prstGeom>
          <a:noFill/>
          <a:ln w="123840">
            <a:solidFill>
              <a:srgbClr val="ff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In The End End(MIX).mp3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8i"/>
          <p:cNvPicPr/>
          <p:nvPr/>
        </p:nvPicPr>
        <p:blipFill>
          <a:blip r:embed="rId3"/>
          <a:stretch/>
        </p:blipFill>
        <p:spPr>
          <a:xfrm>
            <a:off x="7772400" y="5562720"/>
            <a:ext cx="12193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46">
            <a:hlinkClick r:id="rId1" action="ppaction://hlinksldjump"/>
          </p:cNvPr>
          <p:cNvSpPr/>
          <p:nvPr/>
        </p:nvSpPr>
        <p:spPr>
          <a:xfrm>
            <a:off x="1219320" y="1447920"/>
            <a:ext cx="4640040" cy="685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0"/>
          </a:gradFill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 Black"/>
              </a:rPr>
              <a:t>STRU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46">
            <a:hlinkClick r:id="rId2" action="ppaction://hlinksldjump"/>
          </p:cNvPr>
          <p:cNvSpPr/>
          <p:nvPr/>
        </p:nvSpPr>
        <p:spPr>
          <a:xfrm>
            <a:off x="1905120" y="2743200"/>
            <a:ext cx="4640040" cy="685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0"/>
          </a:gradFill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 Black"/>
              </a:rPr>
              <a:t>TATA N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46">
            <a:hlinkClick r:id="rId3" action="ppaction://hlinksldjump"/>
          </p:cNvPr>
          <p:cNvSpPr/>
          <p:nvPr/>
        </p:nvSpPr>
        <p:spPr>
          <a:xfrm>
            <a:off x="2971800" y="4114800"/>
            <a:ext cx="4640400" cy="685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0"/>
          </a:gradFill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 Black"/>
              </a:rPr>
              <a:t>SIFAT DAN REAK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70c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ster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ter memiliki rumus umum RCOOR’, dimana gugus karbonil terikat pada gugus alkoksi (―O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1143000" y="4394160"/>
            <a:ext cx="6324480" cy="12445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457200" y="3429000"/>
            <a:ext cx="8229600" cy="838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mus umum este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70c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tanama Es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tanama ester diturunkan dari penamaan alkohol (diberi akhiran -il) dan asam (dengan akhiran –oat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nulisannya dituliskan turunan alkohol terlebih dahulu sehingga menjadi alkil alkanoat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oh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OC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3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</a:t>
            </a:r>
            <a:r>
              <a:rPr b="0" lang="id-ID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 propano</a:t>
            </a:r>
            <a:r>
              <a:rPr b="0" lang="id-ID" sz="2900" spc="-1" strike="noStrike">
                <a:solidFill>
                  <a:srgbClr val="000000"/>
                </a:solidFill>
                <a:latin typeface="Verdana"/>
              </a:rPr>
              <a:t>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ATA NAMA IUPA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31340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ulai dengan asam + rantai karbon terpanjang yang mengandung gugus karboksilat (CO2H) + akhir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oh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604800" y="3352680"/>
          <a:ext cx="815328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3352680"/>
                    <a:ext cx="81532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solidFill>
            <a:srgbClr val="0070c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fat Fisika Ester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ster merupakan senyawa polar, tetapi tidak dapat membentuk ikatan hidrogen yang kuat karena tidak ada atom H yang berikatan dengan atom 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457200" y="2666880"/>
            <a:ext cx="8229600" cy="1143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.     sehingga, ester memiliki titik didih yang lebih rendah dibanding asam karboksilat maupun alkohol dengan berat molekul yang seband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457200" y="3886200"/>
            <a:ext cx="8229600" cy="9144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  Titik didih ester hampir sama dengan aldehid dan keton padananny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ster biasanya memiliki bau yang wangi,  beberapa mirip dengan bau buah-buahan dan digunakan di industri untuk pembuatan perasa buata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abel Senyawa Ester dan Aromany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1143000"/>
          <a:ext cx="6781680" cy="5318280"/>
        </p:xfrm>
        <a:graphic>
          <a:graphicData uri="http://schemas.openxmlformats.org/drawingml/2006/table">
            <a:tbl>
              <a:tblPr/>
              <a:tblGrid>
                <a:gridCol w="609480"/>
                <a:gridCol w="3454560"/>
                <a:gridCol w="2717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r 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amil asetat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a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il asetat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ghapus cat ku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il salisi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aman winterg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il butirat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n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zil butirat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il propionat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ah-buah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il benzoat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zyl ase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ah pers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il butirat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til asetat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ru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-propil asetat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ah pi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il fenilase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70c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fat Kimia Es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gus karbonil menentukan kereaktifan est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galami reaksi substitusi nukleofil dengan muda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70c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ksi-reaksi pada Es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ksi Hidroli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nsesterifikas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70c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drolisis Es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ter dapat mengalami hidrolisis oleh basa seperti pada hidrolisis asam karboksilat.  Hidrolisis dengan basa disebut penyabun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09480" y="3886200"/>
            <a:ext cx="8229600" cy="12193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—CO</a:t>
            </a: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OR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NaOH → RCOONa + </a:t>
            </a: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R’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4575240" y="404964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mbuatan Sabu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7" name="Picture 2" descr="http://1.bp.blogspot.com/_-c52mclf8BY/TTBRnFNyRxI/AAAAAAAAAxo/voIEh_71iu4/s1600/reaksi%2Bsaponifikasi.jpg"/>
          <p:cNvPicPr/>
          <p:nvPr/>
        </p:nvPicPr>
        <p:blipFill>
          <a:blip r:embed="rId1"/>
          <a:stretch/>
        </p:blipFill>
        <p:spPr>
          <a:xfrm>
            <a:off x="1523880" y="1828800"/>
            <a:ext cx="7010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70c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esterifikasi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ster dapat disintesis melalui reaksi transesterifikasi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28600" y="47242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—COOR’  +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R’’O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RCO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OR’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R’O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Ester t.didih tinggi     Alkohol t.didih tinggi    Ester t.didih lebih tinggi  Alkohol t.didi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lebih rend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762120" y="2514600"/>
            <a:ext cx="8381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Reaksi antara ester dengan alkohol menghasilkan ester baru dengan gugus alkil (pada oksigen karbonil) dari alkohol yang bar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Pada reaksi ini terjadi substitusi gugus alkil pada oksigen karbonil es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3970440" y="5105520"/>
            <a:ext cx="1061640" cy="566640"/>
            <a:chOff x="3970440" y="5105520"/>
            <a:chExt cx="1061640" cy="566640"/>
          </a:xfrm>
        </p:grpSpPr>
        <p:grpSp>
          <p:nvGrpSpPr>
            <p:cNvPr id="323" name="Group 10"/>
            <p:cNvGrpSpPr/>
            <p:nvPr/>
          </p:nvGrpSpPr>
          <p:grpSpPr>
            <a:xfrm>
              <a:off x="4114440" y="5518440"/>
              <a:ext cx="686160" cy="153720"/>
              <a:chOff x="4114440" y="5518440"/>
              <a:chExt cx="686160" cy="153720"/>
            </a:xfrm>
          </p:grpSpPr>
          <p:cxnSp>
            <p:nvCxnSpPr>
              <p:cNvPr id="324" name="Straight Arrow Connector 15"/>
              <p:cNvCxnSpPr/>
              <p:nvPr/>
            </p:nvCxnSpPr>
            <p:spPr>
              <a:xfrm>
                <a:off x="4114440" y="5518440"/>
                <a:ext cx="6865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25" name="Straight Arrow Connector 16"/>
              <p:cNvCxnSpPr/>
              <p:nvPr/>
            </p:nvCxnSpPr>
            <p:spPr>
              <a:xfrm flipH="1" flipV="1">
                <a:off x="4190400" y="5670360"/>
                <a:ext cx="6105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326" name="TextBox 11"/>
            <p:cNvSpPr/>
            <p:nvPr/>
          </p:nvSpPr>
          <p:spPr>
            <a:xfrm>
              <a:off x="3970440" y="510552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pana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0" y="205740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2"/>
          <p:cNvGraphicFramePr/>
          <p:nvPr/>
        </p:nvGraphicFramePr>
        <p:xfrm>
          <a:off x="152280" y="2286000"/>
          <a:ext cx="868680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6868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mbuatan halida as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2"/>
          <p:cNvGraphicFramePr/>
          <p:nvPr/>
        </p:nvGraphicFramePr>
        <p:xfrm>
          <a:off x="0" y="3048120"/>
          <a:ext cx="914400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91440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7"/>
          <p:cNvSpPr/>
          <p:nvPr/>
        </p:nvSpPr>
        <p:spPr>
          <a:xfrm>
            <a:off x="4038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85800" y="1981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am karboksilat + tionil klor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mbuatan Anhidri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4191120" y="2590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914400" y="19810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lida asam + garam karboksil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9" name="Object 2"/>
          <p:cNvGraphicFramePr/>
          <p:nvPr/>
        </p:nvGraphicFramePr>
        <p:xfrm>
          <a:off x="0" y="3657600"/>
          <a:ext cx="91440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Line 9"/>
          <p:cNvSpPr/>
          <p:nvPr/>
        </p:nvSpPr>
        <p:spPr>
          <a:xfrm>
            <a:off x="4191120" y="3962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98280" y="1827000"/>
            <a:ext cx="7313400" cy="15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ika mengandung rantai cabang, maka atom C dari gugus karboksilat dengan rantai terpanjang diberi nomor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toh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533520" y="3887640"/>
          <a:ext cx="7848360" cy="14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87640"/>
                    <a:ext cx="784836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mbuatan ami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533520" y="3276720"/>
          <a:ext cx="800100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8001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6"/>
          <p:cNvSpPr/>
          <p:nvPr/>
        </p:nvSpPr>
        <p:spPr>
          <a:xfrm>
            <a:off x="1447920" y="23623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lida asam + ami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267080" y="3505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mbuatan Nitr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79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kil halida + Natrium sian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Cl + NaC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43000" y="3882960"/>
          <a:ext cx="699768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82960"/>
                    <a:ext cx="6997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6"/>
          <p:cNvSpPr/>
          <p:nvPr/>
        </p:nvSpPr>
        <p:spPr>
          <a:xfrm>
            <a:off x="4267080" y="4114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HIDROLISIS TURUNAN AS KARBOKSILAT H</a:t>
            </a:r>
            <a:r>
              <a:rPr b="1" lang="en-US" sz="2400" spc="-1" strike="noStrike" baseline="30000">
                <a:solidFill>
                  <a:srgbClr val="0066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/OH</a:t>
            </a:r>
            <a:r>
              <a:rPr b="1" lang="en-US" sz="2400" spc="-1" strike="noStrike" baseline="30000">
                <a:solidFill>
                  <a:srgbClr val="0066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E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  RCOOR’  +  H2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RCO2H  +  HOR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D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  RCONR’2  +  H2O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RCO2H +   HNR’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NHIDRIDA :  RCO-O-OCR’ + H2O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70c0"/>
                </a:solidFill>
                <a:latin typeface="Verdana"/>
              </a:rPr>
              <a:t>RCO2H </a:t>
            </a:r>
            <a:r>
              <a:rPr b="1" lang="pt-BR" sz="1800" spc="-1" strike="noStrike">
                <a:solidFill>
                  <a:srgbClr val="0070c0"/>
                </a:solidFill>
                <a:latin typeface="Verdana"/>
              </a:rPr>
              <a:t>+  </a:t>
            </a:r>
            <a:r>
              <a:rPr b="1" lang="pt-BR" sz="2400" spc="-1" strike="noStrike">
                <a:solidFill>
                  <a:srgbClr val="0070c0"/>
                </a:solidFill>
                <a:latin typeface="Verdana"/>
              </a:rPr>
              <a:t>RCO2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HALIDA ASAM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 RCOX    +  H2O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t-BR" sz="2400" spc="-1" strike="noStrike">
                <a:solidFill>
                  <a:srgbClr val="0070c0"/>
                </a:solidFill>
                <a:latin typeface="Verdana"/>
              </a:rPr>
              <a:t>RCO2H  +   X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ITRIL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 RC≡N    +  H2O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70c0"/>
                </a:solidFill>
                <a:latin typeface="Verdana"/>
              </a:rPr>
              <a:t>RCO2H  +    NH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59436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58672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71629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5638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ika terdapat lebih dari satu cabang atau gugus cabang maka penulisan rantai atau gugus cabang menurut abj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ika senyawa mempunyai 2 gugus karboksilat, penamaan rantai utama diberi akhiran dio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795240" y="3581280"/>
          <a:ext cx="763128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3581280"/>
                    <a:ext cx="76312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ATA NAMA TRIVI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dak mempunyai sistemat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etak susbtituen dinyatakan deng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an seterusn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362320" y="1981080"/>
          <a:ext cx="42670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42670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7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Object 6"/>
          <p:cNvGraphicFramePr/>
          <p:nvPr/>
        </p:nvGraphicFramePr>
        <p:xfrm>
          <a:off x="3124080" y="4343400"/>
          <a:ext cx="472464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343400"/>
                    <a:ext cx="47246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295280" y="957240"/>
          <a:ext cx="7313760" cy="5640480"/>
        </p:xfrm>
        <a:graphic>
          <a:graphicData uri="http://schemas.openxmlformats.org/drawingml/2006/table">
            <a:tbl>
              <a:tblPr/>
              <a:tblGrid>
                <a:gridCol w="2611440"/>
                <a:gridCol w="2425680"/>
                <a:gridCol w="227664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a/strukt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U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v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metan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form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etan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ase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butan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buti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pentan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val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heksan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kapr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heptan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enan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etandi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m oks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propandi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malon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de-DE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butandi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. suksin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6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lkil karboksi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1295280" y="2895480"/>
          <a:ext cx="670572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670572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ifat-sifat Asam Karboksil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am karboksilat mempunyai 3 ikatan kovalen pola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senyawa po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am karboksilat mampu membentuk ikatan hidrogen melalui gug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4419720" y="2286000"/>
          <a:ext cx="190476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190476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7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3962520" y="3962520"/>
          <a:ext cx="4267080" cy="20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962520"/>
                    <a:ext cx="42670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Box 7"/>
          <p:cNvSpPr/>
          <p:nvPr/>
        </p:nvSpPr>
        <p:spPr>
          <a:xfrm>
            <a:off x="1371600" y="5983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apat membentuk ikatan hidrogen dengan air dan dengan molekul asam karboksilat yang l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5:51:29Z</dcterms:created>
  <dc:creator> fendi</dc:creator>
  <dc:description/>
  <dc:language>en-US</dc:language>
  <cp:lastModifiedBy>Premium</cp:lastModifiedBy>
  <dcterms:modified xsi:type="dcterms:W3CDTF">2013-03-12T13:25:25Z</dcterms:modified>
  <cp:revision>18</cp:revision>
  <dc:subject/>
  <dc:title>ASAM KARBOKSILAT</dc:title>
</cp:coreProperties>
</file>