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E7C-7EE2-4D96-8227-D7D97D28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2E9-BD6B-4C6C-8CF0-667FC45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113-018B-4077-8CE8-44FCE2B0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0BE-EAAD-40E9-AB4E-7C0019DC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98E-AD71-4581-9002-6E6D2835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6F4-D851-4BB8-8AB7-42D6CFD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B6C-26B4-47F0-B0AF-1C295E0D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1AE-FA2C-4B64-A076-3CA1642B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4E3-7544-4652-82AC-9EBE072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9A9-F042-4663-9C9C-65782DE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E3C-5C7C-42E3-86ED-9F0479F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C15-F0FE-4970-8C72-40AB489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3F587-0D8F-4AFE-B764-BA93A0DF9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BEF1E-E5E7-4C47-84A5-3112C47B602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3.xml"/><Relationship Id="rId10" Type="http://schemas.openxmlformats.org/officeDocument/2006/relationships/image" Target="../media/image2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2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6:49:39Z</dcterms:created>
  <dc:creator>최봉수</dc:creator>
  <dc:description/>
  <dc:language>en-US</dc:language>
  <cp:lastModifiedBy>군만두 맛있다</cp:lastModifiedBy>
  <dcterms:modified xsi:type="dcterms:W3CDTF">2023-07-09T01:22:27Z</dcterms:modified>
  <cp:revision>2</cp:revision>
  <dc:subject/>
  <dc:title>슬라이드 1</dc:title>
</cp:coreProperties>
</file>