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085-58DE-4561-B5AE-222E6459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6DB-C5D5-41AD-AA9A-BD751951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302-D9BA-4CDC-98E1-A8185032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8DF-F1EA-41C9-A053-F5D5E780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F41-EB14-4947-8A84-B8833E6C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D61-CA4F-412A-8E6C-5A500EA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1E0-5778-47BE-897C-D62033B3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22A-6DE5-4FE2-BCB1-B4D09055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6CE-0461-4411-9DD5-A1196FB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5BF-DBC5-4BB7-AF95-B640CAD1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B61-D959-4438-B80F-9F1E4A7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545-0C5E-42BC-813F-A886A43A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A8E3E-7F50-49E2-938A-0CD90E5BD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FE8CF-F296-45DE-95C7-29D591A3F91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slide7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3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" Target="slide7.xml"/><Relationship Id="rId13" Type="http://schemas.openxmlformats.org/officeDocument/2006/relationships/image" Target="../media/image2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0">
              <a:hlinkClick r:id="rId6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3">
              <a:hlinkClick r:id="rId9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5" descr=""/>
            <p:cNvPicPr/>
            <p:nvPr/>
          </p:nvPicPr>
          <p:blipFill>
            <a:blip r:embed="rId10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6">
              <a:hlinkClick r:id="rId11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8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9">
              <a:hlinkClick r:id="rId14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6:49:39Z</dcterms:created>
  <dc:creator>최봉수</dc:creator>
  <dc:description/>
  <dc:language>en-US</dc:language>
  <cp:lastModifiedBy>군만두 맛있다</cp:lastModifiedBy>
  <dcterms:modified xsi:type="dcterms:W3CDTF">2023-07-09T01:22:27Z</dcterms:modified>
  <cp:revision>2</cp:revision>
  <dc:subject/>
  <dc:title>슬라이드 1</dc:title>
</cp:coreProperties>
</file>