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0CB-E0FB-4E8E-A599-1664033D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604-EED8-496F-AF08-ADAB04D0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244-7BED-4E9E-B470-D7E3AEF9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EB9-79A1-46BD-B3E7-10337BAD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143-A566-4C26-BA5E-9776A30C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0A3-68C1-4C54-81BA-6275B8CF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831-1AEB-4084-973A-7460B114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34A-C016-4774-9007-B235C85B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C7D-22AD-4397-90AD-CF5EAFBA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506-1627-4CED-8143-98CA6A0D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0A2-CF68-4C00-BE14-7FF6910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A8B-62F5-4357-8326-F30A67FE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6894-0F04-4F8D-88B2-BE0A1700B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1989000" y="0"/>
            <a:ext cx="516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1162080" y="0"/>
            <a:ext cx="68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220968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2722680" y="0"/>
            <a:ext cx="4592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" descr=""/>
          <p:cNvPicPr/>
          <p:nvPr/>
        </p:nvPicPr>
        <p:blipFill>
          <a:blip r:embed="rId1"/>
          <a:stretch/>
        </p:blipFill>
        <p:spPr>
          <a:xfrm>
            <a:off x="2057400" y="0"/>
            <a:ext cx="5326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305920" cy="68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" descr="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" descr=""/>
          <p:cNvPicPr/>
          <p:nvPr/>
        </p:nvPicPr>
        <p:blipFill>
          <a:blip r:embed="rId1"/>
          <a:stretch/>
        </p:blipFill>
        <p:spPr>
          <a:xfrm>
            <a:off x="1590840" y="0"/>
            <a:ext cx="596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" descr=""/>
          <p:cNvPicPr/>
          <p:nvPr/>
        </p:nvPicPr>
        <p:blipFill>
          <a:blip r:embed="rId1"/>
          <a:stretch/>
        </p:blipFill>
        <p:spPr>
          <a:xfrm>
            <a:off x="2190600" y="0"/>
            <a:ext cx="476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" descr=""/>
          <p:cNvPicPr/>
          <p:nvPr/>
        </p:nvPicPr>
        <p:blipFill>
          <a:blip r:embed="rId1"/>
          <a:stretch/>
        </p:blipFill>
        <p:spPr>
          <a:xfrm>
            <a:off x="304920" y="15840"/>
            <a:ext cx="8534160" cy="68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6800" y="0"/>
            <a:ext cx="47304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142236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1954080" y="0"/>
            <a:ext cx="5235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5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" descr=""/>
          <p:cNvPicPr/>
          <p:nvPr/>
        </p:nvPicPr>
        <p:blipFill>
          <a:blip r:embed="rId1"/>
          <a:stretch/>
        </p:blipFill>
        <p:spPr>
          <a:xfrm>
            <a:off x="22860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338800" cy="65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rId1"/>
          <a:stretch/>
        </p:blipFill>
        <p:spPr>
          <a:xfrm>
            <a:off x="2273400" y="228600"/>
            <a:ext cx="51861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rId1"/>
          <a:stretch/>
        </p:blipFill>
        <p:spPr>
          <a:xfrm>
            <a:off x="2286000" y="0"/>
            <a:ext cx="487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rId1"/>
          <a:stretch/>
        </p:blipFill>
        <p:spPr>
          <a:xfrm>
            <a:off x="2297160" y="152280"/>
            <a:ext cx="4549680" cy="655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13:56Z</dcterms:created>
  <dc:creator>DANIHA</dc:creator>
  <dc:description/>
  <dc:language>en-US</dc:language>
  <cp:lastModifiedBy>Smets</cp:lastModifiedBy>
  <dcterms:modified xsi:type="dcterms:W3CDTF">2008-08-27T20:03:49Z</dcterms:modified>
  <cp:revision>6</cp:revision>
  <dc:subject/>
  <dc:title>מצגת של PowerPoint</dc:title>
</cp:coreProperties>
</file>