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18E-F6D3-48AF-BAEB-2D444FAE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3E9-90F3-46D7-AE64-96645B88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03C-8E60-495D-9A5E-8F0CE84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AD9-1539-4CEA-816D-E3FA93F2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67F-FE7C-4DB9-ADD4-FFD8261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54C-9D69-495F-85CD-2CCE1D0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750-7BE2-4EFA-8CA8-FA0075F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590-8F00-4D96-A13A-E8379E1A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2D5-5A22-48CD-A52A-9D0E4C1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BED-6DA3-4EE4-B811-0F9B28BE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DD4-5099-4A97-BFC3-6D72F53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27C-D7CE-49F5-832A-74F5513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2DA-5BE5-49D9-92B7-B4F23BE8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22096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2722680" y="0"/>
            <a:ext cx="459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2057400" y="0"/>
            <a:ext cx="532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30592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2190600" y="0"/>
            <a:ext cx="476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1954080" y="0"/>
            <a:ext cx="52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2286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33880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2273400" y="228600"/>
            <a:ext cx="5186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228600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2297160" y="152280"/>
            <a:ext cx="4549680" cy="655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13:56Z</dcterms:created>
  <dc:creator>DANIHA</dc:creator>
  <dc:description/>
  <dc:language>en-US</dc:language>
  <cp:lastModifiedBy>Smets</cp:lastModifiedBy>
  <dcterms:modified xsi:type="dcterms:W3CDTF">2008-08-27T20:03:49Z</dcterms:modified>
  <cp:revision>6</cp:revision>
  <dc:subject/>
  <dc:title>מצגת של PowerPoint</dc:title>
</cp:coreProperties>
</file>