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7.jpeg" ContentType="image/jpeg"/>
  <Override PartName="/ppt/media/image8.gif" ContentType="image/gi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4EE9-7EC1-4012-91C5-6D46CD960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nti teks sesuai se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8C71-922E-4E94-841C-FBB70459A4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nti teks sesuai se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34EB-0986-4055-90AB-6A41517886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nti teks sesuai se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D4BD-9849-4FED-A6CB-A3D1CFE6A1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DFA1-FC17-47F5-A7E5-AB54370E2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C264-E1B6-447B-95EC-B5CD87A9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A1BD0-1CDA-408D-BFAB-8E5D2B5B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949E4-0857-4F0E-A3CD-CC364D75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2B4D6-2635-413C-A98B-7B7E954D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A88901-2A07-4F61-9354-F0FB4695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249B3-EFDE-4230-82F7-1B248B6D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98EF79-FEA8-4C97-AFDD-941C55EE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2FFB32-EF56-4C35-8121-B7BB7083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6829A4-14A1-48A9-A18E-FF9551B2A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5D3F8-DD34-4F57-B48F-4F7632B41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BA4A3E-BA88-464B-9D2B-0DC1DF65C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0CFC-C877-4E4C-BB2D-F1663D7B5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3AFA02-AA84-43C7-99ED-B00B12F5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72EE27-B776-4FE7-A24D-DBCE4CE8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2B6B39-2C88-4B1E-9B8E-9638BBFA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8D2FC8-7971-4109-B7ED-221BAF71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8D3CB4-EECC-4389-8044-265030B3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D42405-5254-4ED0-B0AC-70BF5F58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6E5F70-F3CF-43FB-A4BF-23998FB0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74B2BC-4025-4F9D-A822-118B162A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58267-1A6F-4464-A2AE-0C301C82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361B0E-CB25-4117-97B9-5A1F91643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9294-304D-47B6-9E7F-AB7948834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233FE7-8D99-4DF0-96DA-A32145D32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A2F79C-C1CC-486E-B663-313EC26AB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3173A-3549-46D2-A891-0FD572F5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BAEED-F224-4825-996E-BE4F197D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6F38B-3C54-4A22-BC4B-537BE6F9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91206-B5CE-43EE-A3AC-E051C19D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6323F-C4B2-4D66-A0CD-E11A65CE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D9E38-F9E2-40BD-ACCC-BD8DA507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3AD8F-400F-4867-A13A-4A5EB1A4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CDC32-3D3E-4785-9225-F4DE15AD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F75F-F61E-44B8-891C-6508A1FC0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EF01F5-D22E-49AB-89AF-0E9CB993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5B9C9-8A2D-4AD4-BD93-0B3B5AB94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0D098-4373-4373-B73C-6E480CA72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5FFA24-693D-446D-B26B-3E949BC8D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F88CF4-E176-408B-9C65-6630C0F8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4A1C7C-E45F-44FA-9904-05B34284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6C01D8-536E-4731-9CFE-96D97704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1ADED1-4F12-4385-9CA8-79383AD2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BC3F49-7BAC-452E-95E8-45B20D4C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AF1558-D2B0-4216-B1E8-68963C47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C81A-609A-48A5-9D83-0AD5BF2E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1B0657-B0D5-4782-8003-361D34F7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14EAA2-2501-4D53-88B3-DDBD3019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9AC819-9ECD-455B-92A4-E212392C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8E736-7011-4019-96A4-7FAFDCDD5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9FDB7E-F017-4116-AF9D-FF04D3131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3D596D-857C-4457-91E1-55D63FAA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5C783D-7724-4DEB-A19F-6B09D12F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478857-8079-4170-ACC7-87B39E56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847D51-19BF-4F7A-870D-5F051826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860EBD-18C8-425D-8316-A1CE4D47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77DD-131B-44AF-908A-3346910B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EBDBC6-132C-4D10-83B3-E592FDBB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20D203-4B8F-4710-8235-95307148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F90748-98F9-49F0-B817-68D74394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402FF2-E555-456E-B3B1-85A3A4E1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7D9049-9285-4F76-9073-3595DA3B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23406C-E033-449D-B0AD-4E519BDED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29F047-ED1A-415C-BCC3-F7D094761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262C5B-A9F2-4FED-B90B-36A9ACE34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EF98C1-0F00-4803-A949-2981C81B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DE3BE5-4965-4C50-B672-888C291D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A1A9B-32D1-4416-9353-60BC1541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7F0D7A-7723-410D-A8DD-DF698E45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60C993-80EE-4678-B840-7C2DF25C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5F8F55-EC36-4B2D-B274-2BF27790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4A2E85-4623-4982-A33A-F9A73780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577C16-EB53-454F-8188-44CDC663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6AFCF4-B7C2-4E80-9ED6-E0110DA4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8D4652-0ED9-4E55-9A2B-6CAB1B3C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2C18D1-7022-48AB-95C8-A72EC88BA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99FEAD-4CBC-42C9-B535-E2C2F1BF9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E885FE-126A-4FC8-AF04-5120800DD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48B9-4535-4B7F-A38F-02F19F8D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B0ACAF-6CBD-4DD5-B172-427A667B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6D5505-FD50-4AA3-86EC-EDF4CA9E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9BC747-8CE3-4E52-A6E6-B928631F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D1AD24-E00F-46E8-B3E3-42E59C4A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22AD5B-1B53-4CF6-A009-B9B3F4B4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FE49C7-2354-4352-A7E2-8697E240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0299F3-BBFA-4384-8880-E37F1CF2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1AB7DE-8F7B-4A74-AAC5-4F46A43F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4B5C19-C7D3-4AF5-852E-6127AF07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607E60-C258-469C-B40C-F2AEF09F6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FDEB-039C-4477-97E6-425C4412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C6F7E6-7212-45BC-AE3F-4F99B04FA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75CD-17A0-473B-9B9B-E5074B8F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DD3C-8418-4D76-9D1D-FA08B965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8880-8282-4081-BCFE-5F1D0500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5BA4-A766-4041-9554-1AC6D7DB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BD1E-6364-425E-A567-279B54E2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1BD51-D80A-4D97-9BD2-28B06914E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02E6-1DFD-47C3-AAC4-BF4567E1D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E4121-107F-4FFD-9D1D-361E4CEA0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73C5E-DAC7-4F1D-9531-7F9DB76E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848DA-1940-415A-BC1C-414DA4C4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04496-091B-4A45-A296-AEA3428A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C2CE2-1BE3-4767-9E3E-10DCA328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941C-8833-487D-915F-88650F2C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5FA1D-9122-4977-803D-C1B820A6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54B2F-2E82-4F3A-8744-E25D9AB1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8793A-CE48-4531-83F2-767416BF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6809F-3AC6-4F39-8C99-3FB58394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4E389-E040-4374-A34D-82543321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A2A1F-84A7-4D81-B123-F45A5941F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740DD-1C3F-4B91-8964-9BA205A8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C5B49-394C-4258-8C01-388AD6736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BAFC9-9C1E-4433-BF40-F665989A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D449F-84EF-4E75-81B0-81C59895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FEE3-6BD6-40E8-8583-A4F8F260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36C14-703F-4F57-B07E-90D293AE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E37E8-FBEF-4DC3-9A0B-5725BF30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1AE70-57EC-4993-8A24-BEF70AA3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D19C8-92D6-4B2E-BCB6-F52D35A3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1DDB1-E666-407B-9EF8-8BA11BDB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27E59-701A-4992-AA70-F752915A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3303D-8D81-4DFB-98CD-816E0595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4C401-E76F-479C-8FF4-A2DB56729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11A24-F79D-48E6-8B93-7751830E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33686-6406-4BD0-89D5-F870EC512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B4D9-4AB0-471E-9C2B-731F471D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2572D-125D-486A-9701-2885CC8D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D43FF-3606-4745-9826-5E964842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DA1A7-6165-4D2E-9018-0DCD7947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A6CA0-7B80-48A2-9E20-E64C4240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F926C-C968-487B-B0D8-5E5BC77E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267AC-7DBE-4089-BFCD-47BCD432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7BAD9-91F6-4DBF-BAB3-446DE29F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5E135-6CCD-48C1-A253-77D20633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AF882-3D3F-444D-8CDA-05775225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35564-91A0-4FE5-A04F-345DBFC3C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2BF5-DD58-4367-A4DA-56A1291A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89C18-DD96-4135-A297-25582CE47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ABFAD-CF78-475C-800E-6F7DCD954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787DC-1E04-4E7E-93DB-3DE0E002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1D6D0-CB73-4919-A7EE-29B29AB3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BBB6A-2DA6-47C7-A83B-9DD4B02E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B6A59-A924-4118-AA6D-04A20E6A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3896B-9DD7-4EE8-98A8-9C137A36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27DCD-1E6F-4B01-A886-C420CD3B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60EE9-92DB-4B6C-BD55-7BE8ACFB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D6BC5-8832-4F97-95C4-7BA8B783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A0F8-C967-43C7-9CB7-E22B4182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21613-861A-48A7-AFBE-278F9623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231BC-6003-49E0-B507-83107886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6C27A-14D3-4701-9F15-209364DA2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40218-F980-4261-95B6-BE9B2ABE4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50823-FAD0-4061-A8A0-E2566F90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77305-94E7-4177-B814-AFB3FF75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C12FF-545F-4BE1-90F1-D55BA8E2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A2215-0656-458F-9198-A89C038F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AE5E4-43B0-4A69-B6FC-37AD021D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7A80C-9715-4355-87B0-03534DC8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E72D-F16B-4BB4-968A-98A31350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E520A-5D9E-4C96-8359-CFD1D962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797E1-F69C-4B07-9CDA-DB3BA3C7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DF189-DA5B-4C6C-80D7-C0F75875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8454F-3412-470A-8BA4-F170EFF6A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D8601-843C-4315-A7F1-6C6C9903D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4514A-E074-4322-BDDA-A5C7664F4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367AA-02E4-4A87-ADCF-5D947EBC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B6213-00DA-44F7-A62A-D37B20D6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BE9BC-EBFD-4A90-BF03-195CBF24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29DFB-8520-48B2-AAB5-ECB55B41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F126-3BA9-4E24-8E20-F0ADE9A7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F3446-EE4E-41F4-9C7B-62C1A488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57939-7396-42C5-BE53-DD1DEFF1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A4779-582E-4C63-9DE7-5A7E5119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5C99B-16A6-4F29-980E-7113057B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63B6A-C796-4F6E-B429-9E29595B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596A4-F815-482B-9584-FACB8D67B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27035-AB41-4895-958C-D7AE2302D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BBDD44-A7DA-4D28-8692-E1E0307E3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1F434-67C7-4A2B-84EC-3397D56B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58DCD8-1302-462A-9B51-3C0A4A7B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D711-0DC2-4567-B6C1-EB92D7EEA7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4F19-72F3-4862-B2F0-043E3BFACB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3ACB-D67A-455D-8736-74C584FC91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AA47-00F6-480A-A508-D77D5F7F2B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043E-F35D-40DA-B968-46E8C53959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6F0D-E59A-46D9-B315-2527B31F7A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761D-24E3-4442-B5C4-F6BC8C9ED5B1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37FF-27DB-482E-A3D2-51F505A1D2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5D8D-EB32-4068-854E-4ACAEC5C2961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301B-4BB0-4000-B195-5E0E15D67F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29DF-E2DB-41CA-B35C-3517EA9560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24AA-BB56-4BB0-AEC8-57B5B616E7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B708-4A48-472F-8AD4-EE8D3D4124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078F-9D45-4A5C-86CD-A670D8CE7E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8596-0A71-443F-882E-B6722333C2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ower-point7.blogspot.com/" TargetMode="Externa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Text Box 10" descr=""/>
          <p:cNvPicPr/>
          <p:nvPr/>
        </p:nvPicPr>
        <p:blipFill>
          <a:blip r:embed="rId2"/>
          <a:stretch/>
        </p:blipFill>
        <p:spPr>
          <a:xfrm>
            <a:off x="3048120" y="3505320"/>
            <a:ext cx="2931840" cy="85392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1" descr=""/>
          <p:cNvPicPr/>
          <p:nvPr/>
        </p:nvPicPr>
        <p:blipFill>
          <a:blip r:embed="rId3"/>
          <a:stretch/>
        </p:blipFill>
        <p:spPr>
          <a:xfrm>
            <a:off x="2419200" y="1828800"/>
            <a:ext cx="4286520" cy="47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6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69608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oper Black"/>
              </a:rPr>
              <a:t>SELAMAT </a:t>
            </a:r>
            <a:br>
              <a:rPr sz="5900"/>
            </a:br>
            <a:r>
              <a:rPr b="0" lang="en-US" sz="5900" spc="-1" strike="noStrike">
                <a:solidFill>
                  <a:srgbClr val="000000"/>
                </a:solidFill>
                <a:latin typeface="Cooper Black"/>
              </a:rPr>
              <a:t>DATANG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5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4570560" cy="685800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11" descr=""/>
          <p:cNvPicPr/>
          <p:nvPr/>
        </p:nvPicPr>
        <p:blipFill>
          <a:blip r:embed="rId3"/>
          <a:stretch/>
        </p:blipFill>
        <p:spPr>
          <a:xfrm>
            <a:off x="4570560" y="0"/>
            <a:ext cx="4570200" cy="68580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2" descr=""/>
          <p:cNvPicPr/>
          <p:nvPr/>
        </p:nvPicPr>
        <p:blipFill>
          <a:blip r:embed="rId4"/>
          <a:stretch/>
        </p:blipFill>
        <p:spPr>
          <a:xfrm>
            <a:off x="2190600" y="10476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3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16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53469E-006 L -0.39983 2.53469E-006 E">
                                      <p:cBhvr>
                                        <p:cTn id="19" dur="2000" fill="hold"/>
                                        <p:tgtEl>
                                          <p:spTgt spid="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53469E-006 L 0.40035 2.53469E-006 E">
                                      <p:cBhvr>
                                        <p:cTn id="21" dur="2000" fill="hold"/>
                                        <p:tgtEl>
                                          <p:spTgt spid="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743200" y="68544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 baseline="-25000">
                <a:solidFill>
                  <a:srgbClr val="000000"/>
                </a:solidFill>
                <a:latin typeface="Calibri"/>
              </a:rPr>
              <a:t>YOUR TEKS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TextBox 3"/>
          <p:cNvSpPr/>
          <p:nvPr/>
        </p:nvSpPr>
        <p:spPr>
          <a:xfrm>
            <a:off x="4013280" y="621180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ganti teks sesuai sele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92504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ncoba bermanfaat untuk orang lai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066680" y="1676520"/>
            <a:ext cx="7353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jung dari ilmu adalah amal, maka dari itu saya mencoba mengamalkan ilmu yang sudah saya dap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alah satunya yaitu dengan in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i mungkin sedikit bermanfaat untuk saudara,“mau memeluk gunung tapi apa daya tangan pun tak sampai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moga bermanfa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Box 3"/>
          <p:cNvSpPr/>
          <p:nvPr/>
        </p:nvSpPr>
        <p:spPr>
          <a:xfrm>
            <a:off x="4013280" y="621180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ganti teks sesuai sele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cred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2514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untuk power-point lainnya anda bisa kunjung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Klik dibawah i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Action Button: Custom 3">
            <a:hlinkClick r:id="rId1"/>
          </p:cNvPr>
          <p:cNvSpPr/>
          <p:nvPr/>
        </p:nvSpPr>
        <p:spPr>
          <a:xfrm>
            <a:off x="1523880" y="4495680"/>
            <a:ext cx="5867640" cy="838440"/>
          </a:xfrm>
          <a:custGeom>
            <a:avLst/>
            <a:gdLst>
              <a:gd name="textAreaLeft" fmla="*/ 54360 w 5867640"/>
              <a:gd name="textAreaRight" fmla="*/ 5813280 w 58676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151107" h="21600">
                <a:moveTo>
                  <a:pt x="0" y="0"/>
                </a:moveTo>
                <a:lnTo>
                  <a:pt x="151107" y="0"/>
                </a:lnTo>
                <a:lnTo>
                  <a:pt x="151107" y="21600"/>
                </a:lnTo>
                <a:lnTo>
                  <a:pt x="0" y="21600"/>
                </a:lnTo>
                <a:close/>
              </a:path>
              <a:path fill="lightenLess" w="151107" h="21600">
                <a:moveTo>
                  <a:pt x="0" y="0"/>
                </a:moveTo>
                <a:lnTo>
                  <a:pt x="151107" y="0"/>
                </a:lnTo>
                <a:lnTo>
                  <a:pt x="149707" y="1400"/>
                </a:lnTo>
                <a:lnTo>
                  <a:pt x="1400" y="1400"/>
                </a:lnTo>
                <a:close/>
              </a:path>
              <a:path fill="darken" w="151107" h="21600">
                <a:moveTo>
                  <a:pt x="151107" y="0"/>
                </a:moveTo>
                <a:lnTo>
                  <a:pt x="151107" y="21600"/>
                </a:lnTo>
                <a:lnTo>
                  <a:pt x="149707" y="20200"/>
                </a:lnTo>
                <a:lnTo>
                  <a:pt x="149707" y="1400"/>
                </a:lnTo>
                <a:close/>
              </a:path>
              <a:path fill="darkenLess" w="151107" h="21600">
                <a:moveTo>
                  <a:pt x="1511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9707" y="20200"/>
                </a:lnTo>
                <a:close/>
              </a:path>
              <a:path fill="lighten" w="1511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ww.power-point7.blogspot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3T17:36:08Z</dcterms:created>
  <dc:creator>Abu Zaeni</dc:creator>
  <dc:description/>
  <dc:language>en-US</dc:language>
  <cp:lastModifiedBy>Abu Zaeni</cp:lastModifiedBy>
  <dcterms:modified xsi:type="dcterms:W3CDTF">2012-05-12T08:13:47Z</dcterms:modified>
  <cp:revision>32</cp:revision>
  <dc:subject/>
  <dc:title>PowerPoint Presentation</dc:title>
</cp:coreProperties>
</file>