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jpeg" ContentType="image/jpeg"/>
  <Override PartName="/ppt/media/image8.gif" ContentType="image/gi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0BC5-9654-41FE-8353-C7CD7BAD5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ti teks sesuai se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AF05-6AC5-4770-9D1B-1A181BAF4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ti teks sesuai se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0EAF-649C-4A96-947A-6D09BF33A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ti teks sesuai se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86C1-F890-46DA-8307-4EB602CD2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D1E-C1AE-4086-8C8A-EB137222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2FC-AED3-4208-93F2-9CF925C6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A1047-E221-41B7-8BCE-F9684D5B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6A38C-3E53-4E4E-89D1-BAFBDDD2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807D0-5618-4361-8FEB-6E203CF0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C0DF7-ED9D-4044-9252-A7C4AD77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03996-5FCA-4344-AC59-1BF43E80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C0098-518F-44AF-90F4-5C6259E3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A1713-2124-4B29-8A8B-3B2E9B7D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723B1-C33F-4991-985F-C1962541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9B642-35DF-49E5-8A2B-A462AA80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80B55-C03F-406F-9EAE-736033DF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060-20D4-40E9-92D9-11FB061B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3E019-CE0D-48F8-B94A-59E19A35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D9E82-945E-4706-8439-EA20D9C2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4E716-B4D5-482C-92A7-B176204D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2A8C8-0C31-4931-9D47-C68D558F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F8206-0422-4329-A2F9-558282F7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A94C2-EBF9-4A8E-8322-829A789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44902-056B-4053-B609-57F8479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3305-3418-4673-B4B1-A716B2ED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6BE69-87C8-4A1F-BE61-6DE6E9D2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ACFCA-968D-4F3A-A473-31BD7CDC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531-308A-4836-96E3-D04AAED1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16A93-60F7-4971-846C-F6EAD7EC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64CA1-A062-41EC-A5D3-B8A3CDDC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F7594-1EA7-43FF-A0C5-43C358BF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95F35-559B-494B-B94F-1D63D5F3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249CA-94B8-46E0-A5AA-009D8112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2E330-FCD4-4CA8-A856-87546CF6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2E070-F768-4519-B3B5-2E06C7A3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11511-F5DD-4CC3-B876-55682D25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9A99A-5C57-45A6-97B3-CD64F5D2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F29D8-AC44-4289-B8F7-D3F47F1A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7F8C-DD9B-45B0-8879-EA9A4501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DBDB0-41FC-4289-89E6-65F436D1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79A81-5495-43EA-BD4D-744D5CB9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6372C-53BB-446B-BAF6-A34B5CA2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B24F9-7C29-484D-A49D-F20EAECF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C3EE9-3E97-4BAF-B6C7-EECA3668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D01CC-065F-48B6-950C-FA82BD8B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0DB6B-61FF-4DB0-9011-3AA1FE5F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8FAC3-1D4D-4898-8A2B-DDC19D94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A3D4F-E441-4FDD-95EF-702F8E66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1DB90-BA68-43B0-8534-DE066A66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36E0-141B-4EA6-88C0-08EC0AD3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E05CA-01A3-46C0-A2C3-45C2CCE8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CE81A-C8FE-4B2A-9417-6E725725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0F4AD-C061-48FB-AD2E-E0D82A1C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BD461-789F-4D35-93CD-14FD86B8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3DD3F-6BA1-4281-8D07-D499E97A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7D7AD-B398-450A-B4CC-C4FD4BDB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477C6-EDE0-435D-B5DA-D7B5C6D0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54956-32A9-4527-B592-EA6552D4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59815-ED12-4968-B0C7-907C990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27310-7D27-4497-B7AA-EDCE8EDF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BB39-233F-41F3-BB93-C58C744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13331-568B-41B8-955C-8C3A4680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EDF7B-9782-4DE3-8287-90232339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C52E8-4CF8-4462-810C-C7922773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3402E-67F8-4A08-90C7-6210E755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29990-16D4-4B48-ACDD-5AF048B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A8966-3286-42F4-94D8-20C5C32C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A7D98-03F7-4552-9B60-AD72CB21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C08CF-AF75-455C-AC1D-FD064054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AD6E5-FD63-47EE-8575-B6F47B54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28671-A5EE-40E6-A47F-B344B86E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19FF-8C2F-46B5-88E7-3277FB37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D3C31-F14F-4929-A869-5E4518F1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EE22A-C7D3-437F-9C3C-2E0DFE68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38178-8FFE-452C-9676-D0E0B996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FF3CA2-F8A3-404D-A31A-F9225235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97569-AEE5-4AD7-9DEC-51FA2228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34733-A29F-42FA-B120-D6ACD74D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1AEAF-003F-46C3-A14F-6336A121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33E58-1FE1-48F7-9BA2-771391C6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9400C-9B77-41CE-BF6D-FBAD530A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6EAC9-B46C-4BE3-803E-6B861782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8AB-F5B0-40C3-A906-B0B72D1B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33CFF-5AB3-4168-8F37-35215AFA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60C432-3EAF-4A9F-A8D2-9A0BEA0E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7CCC7-9EB0-4D80-B22E-A2DAE51C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83F19-38F8-4D9E-8737-B8029339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2E186-A2A4-4B48-9EB8-21BA4DB0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39E74-228C-4179-87CA-F827EC87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77BDC5-DC98-41BD-84EE-C46F5559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DD34F-4DDF-4F71-9DC6-FB5DF4BE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C490AF-1054-4645-9C62-4C211566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19E4A-9780-4CF7-BC53-C82ACEFC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CF53-4B38-4379-993A-95935704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0C6C1-68D5-4340-99D8-FCBF1C94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6C8D-17B4-4F32-88E4-D89FF4B5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AD7-5DDC-41EF-A41E-DCC63584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9EF-877C-4DAF-8414-A39E00E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47CB-0BA2-4C1A-A0E2-55B3047E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5F11-F9A7-44E9-A3D5-69EA106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43F7-1387-431D-A913-CBDC3B4A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DAD0-B1B9-4119-8C2D-C4B15C2B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AAF1-2CB9-4839-A272-54E57E88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5BB6B-CD37-433D-A017-4F25346E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E7876-DAF8-4BB1-8472-62E9A108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7AFA6-E629-4223-A6BF-0B1F7C0A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F1BC8-8C19-4356-BFD1-03EEF56D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8805-A9F1-4484-9A62-773A6927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6BA5-6785-47B5-AF93-DCE5AF54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C14DB-07CF-4D59-AFC8-B80AC16B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C5E1-8046-4FA1-B640-053DF486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16069-0047-41B0-85EE-FB13E44E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BB88-7C16-41D8-9122-8804919B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5CF0-D716-42EA-86C2-EBF2E825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1657A-3F44-4609-8F58-A66221C0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596F-EDCB-4170-A86C-4C158AB0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E8B6-9C44-462E-B297-56E43F73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9C717-27C7-4927-82FB-5F03E7DC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58D-84D8-4D71-AE48-8D10427F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5AC8-9CB2-44D6-91D0-6DD2D451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E9E1E-F9B2-4312-86C9-50A3DB3C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60FA3-B78E-4041-A626-0D9D18CB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A4037-5AF6-473E-9B5F-20595F0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DF679-7E08-4D13-A5F6-B505F15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D0F1-6E35-477C-9B88-8E365442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5E09-C288-4D11-A0FA-D5679375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44E2D-75B4-4834-B5F4-D8A76B42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38C51-8D1A-4101-8699-BFD934B7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AFCB-0ADC-4BDD-B2D1-36A2945E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32D-7FAF-49FB-B397-B8B08003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A65B6-7EDE-4343-B63E-C0EC5910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B7BD0-CF1F-4537-85C1-DE056D61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B06B-8A2C-428F-8F42-030846E0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2299F-65FC-41A5-B424-3225B7EA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DA870-0EB7-4360-8DA5-C487A746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99157-1043-45B4-8B3B-4CA7A305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81E3-D99A-4725-82AC-A4913241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257A8-5341-405C-9CAA-0BF8F7B8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0B795-072D-4820-A5EB-4900465F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BDE01-8D54-402D-809B-E6CDB1F8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4B3-AA19-4937-8B16-6EC9061F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00C3-912E-472C-8B92-3A464F18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7209B-BAD9-497D-9A9E-79DC6BA7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BCC9D-7138-4DF1-A959-12FCA193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8BEDE-9945-47C9-A74E-DFB838CE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DAECF-E954-4D5C-B455-D49FF09E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C0648-BFBE-4415-876A-3C1C945D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91063-6D35-4D41-BB3C-652708EE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1DBB3-B8CC-4C55-B9D0-FC3027A0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0F1AE-A4F0-4FE3-BDF6-2F48EA4A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EED6D-62B6-4824-B237-E342A371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FCF-0145-4B11-BBDE-3B33EBB9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F7C4-373F-4E14-A81C-B89467A2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0667D-1099-41C4-A259-4D2B885F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2C07A-4F52-4693-A703-4047F10B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E1783-99C0-4F7C-805A-83C303B1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12E44-92DE-4E6E-9529-997860D5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8573C-98DD-4070-9E32-BD4BC0F6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1E278-3CD1-4BCC-9F1F-83559681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60EF3-26AE-4663-80B8-1E478F2A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60D35-5AF5-4AAB-9450-8C413253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FA8F-D379-4743-80EA-EE87F373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7359-C65C-4F0B-A59D-40F7918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ACD13-D07E-4D25-AD1B-AAB6A45C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60AC4-6AA9-4339-8623-43A16422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C8526-58F3-4603-AD77-AB727E61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C8867-6A76-402F-A077-E403249F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B5A85-8FEE-4031-A22B-82C11AD6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BE7DE-3871-4CFD-BD9A-E691C6F9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B6048-A98D-41F6-87A9-C5A779FB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F8A0-8E93-4EE5-891E-3E0A3D13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D421A-12F7-404A-A744-A03B0F2F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567A5-D52B-480D-A4FA-DF3EDD6D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CD3-BBA6-4A8C-998A-29C2EE0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B89F-764D-4E80-B407-59D188DF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B293E-8171-4C41-8423-B4680501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33515-761A-45D6-8D9A-5B763DDE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027AE-B4EA-4DD2-A766-B8FE0A73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37F74-ACA6-4EE5-BB07-BAD1F624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C5410-36A4-4A04-B8DF-5E1E3EEF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B5D47-F7F8-41FE-9280-16F68AA7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887F5-939F-48C4-B6F8-A79B96AD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12A59-25D1-4248-B74A-2A6AAE7F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584C0-9744-40A2-AE55-B7232D49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87D1-8752-43AD-BB5C-02AA2C15A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3CEF-9E04-4302-B4AE-8B90E2726D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68BF-C223-4261-ADA1-7B84EE080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A02F-BFB5-419D-ACB0-FAB909C10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6EDE-F0BF-425F-8567-A9BB60FB9C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78B7-8490-4076-A378-3AE6360DA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7EA6-C3C0-467F-A5B4-B09686589DE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F952-8526-4601-84EC-664C2FB8D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EC6-E009-4737-B168-AF8AE21729EF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5C34-E37F-4071-BA0C-1052D27964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9599-679C-4AC6-BE3C-04B88047A2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7B5C-E41C-4863-BF89-8C6C7090B8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8DB-D2F8-4EF9-94A4-E8F3B96314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65C4-E0EE-4BB1-B634-F3A488769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8973-6F6F-4113-916E-7F7CE3F9EE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wer-point7.blogspot.com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Text Box 10" descr=""/>
          <p:cNvPicPr/>
          <p:nvPr/>
        </p:nvPicPr>
        <p:blipFill>
          <a:blip r:embed="rId2"/>
          <a:stretch/>
        </p:blipFill>
        <p:spPr>
          <a:xfrm>
            <a:off x="3048120" y="3505320"/>
            <a:ext cx="2931840" cy="853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" descr=""/>
          <p:cNvPicPr/>
          <p:nvPr/>
        </p:nvPicPr>
        <p:blipFill>
          <a:blip r:embed="rId3"/>
          <a:stretch/>
        </p:blipFill>
        <p:spPr>
          <a:xfrm>
            <a:off x="2419200" y="182880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6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69608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ooper Black"/>
              </a:rPr>
              <a:t>SELAMAT </a:t>
            </a:r>
            <a:br>
              <a:rPr sz="5900"/>
            </a:br>
            <a:r>
              <a:rPr b="0" lang="en-US" sz="5900" spc="-1" strike="noStrike">
                <a:solidFill>
                  <a:srgbClr val="000000"/>
                </a:solidFill>
                <a:latin typeface="Cooper Black"/>
              </a:rPr>
              <a:t>DATA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1" descr=""/>
          <p:cNvPicPr/>
          <p:nvPr/>
        </p:nvPicPr>
        <p:blipFill>
          <a:blip r:embed="rId3"/>
          <a:stretch/>
        </p:blipFill>
        <p:spPr>
          <a:xfrm>
            <a:off x="4570560" y="0"/>
            <a:ext cx="45702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2" descr=""/>
          <p:cNvPicPr/>
          <p:nvPr/>
        </p:nvPicPr>
        <p:blipFill>
          <a:blip r:embed="rId4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6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3469E-006 L -0.39983 2.53469E-006 E">
                                      <p:cBhvr>
                                        <p:cTn id="19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53469E-006 L 0.40035 2.53469E-006 E">
                                      <p:cBhvr>
                                        <p:cTn id="21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743200" y="6854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 baseline="-25000">
                <a:solidFill>
                  <a:srgbClr val="000000"/>
                </a:solidFill>
                <a:latin typeface="Calibri"/>
              </a:rPr>
              <a:t>YOUR TEKS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4013280" y="621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anti teks sesuai sel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ncoba bermanfaat untuk orang la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66680" y="1676520"/>
            <a:ext cx="735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jung dari ilmu adalah amal, maka dari itu saya mencoba mengamalkan ilmu yang sudah saya dap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alah satunya yaitu dengan i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i mungkin sedikit bermanfaat untuk saudara,“mau memeluk gunung tapi apa daya tangan pun tak sampai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moga bermanfa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3"/>
          <p:cNvSpPr/>
          <p:nvPr/>
        </p:nvSpPr>
        <p:spPr>
          <a:xfrm>
            <a:off x="4013280" y="621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anti teks sesuai sel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red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2514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untuk power-point lainnya anda bisa kunjung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Klik dibawah 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ction Button: Custom 3">
            <a:hlinkClick r:id="rId1"/>
          </p:cNvPr>
          <p:cNvSpPr/>
          <p:nvPr/>
        </p:nvSpPr>
        <p:spPr>
          <a:xfrm>
            <a:off x="1523880" y="4495680"/>
            <a:ext cx="5867640" cy="838440"/>
          </a:xfrm>
          <a:custGeom>
            <a:avLst/>
            <a:gdLst>
              <a:gd name="textAreaLeft" fmla="*/ 54360 w 5867640"/>
              <a:gd name="textAreaRight" fmla="*/ 5813280 w 5867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51107" h="21600">
                <a:moveTo>
                  <a:pt x="0" y="0"/>
                </a:moveTo>
                <a:lnTo>
                  <a:pt x="151107" y="0"/>
                </a:lnTo>
                <a:lnTo>
                  <a:pt x="151107" y="21600"/>
                </a:lnTo>
                <a:lnTo>
                  <a:pt x="0" y="21600"/>
                </a:lnTo>
                <a:close/>
              </a:path>
              <a:path fill="lightenLess" w="151107" h="21600">
                <a:moveTo>
                  <a:pt x="0" y="0"/>
                </a:moveTo>
                <a:lnTo>
                  <a:pt x="151107" y="0"/>
                </a:lnTo>
                <a:lnTo>
                  <a:pt x="149707" y="1400"/>
                </a:lnTo>
                <a:lnTo>
                  <a:pt x="1400" y="1400"/>
                </a:lnTo>
                <a:close/>
              </a:path>
              <a:path fill="darken" w="151107" h="21600">
                <a:moveTo>
                  <a:pt x="151107" y="0"/>
                </a:moveTo>
                <a:lnTo>
                  <a:pt x="151107" y="21600"/>
                </a:lnTo>
                <a:lnTo>
                  <a:pt x="149707" y="20200"/>
                </a:lnTo>
                <a:lnTo>
                  <a:pt x="149707" y="1400"/>
                </a:lnTo>
                <a:close/>
              </a:path>
              <a:path fill="darkenLess" w="151107" h="21600">
                <a:moveTo>
                  <a:pt x="151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07" y="20200"/>
                </a:lnTo>
                <a:close/>
              </a:path>
              <a:path fill="lighten" w="151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ww.power-point7.blogspo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7:36:08Z</dcterms:created>
  <dc:creator>Abu Zaeni</dc:creator>
  <dc:description/>
  <dc:language>en-US</dc:language>
  <cp:lastModifiedBy>Abu Zaeni</cp:lastModifiedBy>
  <dcterms:modified xsi:type="dcterms:W3CDTF">2012-05-12T08:13:47Z</dcterms:modified>
  <cp:revision>32</cp:revision>
  <dc:subject/>
  <dc:title>PowerPoint Presentation</dc:title>
</cp:coreProperties>
</file>