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9.jpeg" ContentType="image/jpeg"/>
  <Override PartName="/ppt/media/image11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1.gif" ContentType="image/gif"/>
  <Override PartName="/ppt/media/image24.gif" ContentType="image/gif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7.jpeg" ContentType="image/jpeg"/>
  <Override PartName="/ppt/media/image12.jpeg" ContentType="image/jpeg"/>
  <Override PartName="/ppt/media/image17.jpeg" ContentType="image/jpeg"/>
  <Override PartName="/ppt/media/image23.gif" ContentType="image/gi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5F69-7D04-4B98-B10F-0C368792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EB13-CA23-4D2F-927D-9B6223BF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2D2E-2352-4982-9C5D-C5DD75482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F830-70BF-434F-833C-2126DEB6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948B-5013-49C4-8884-0F6C4F1B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1AF7-8034-46CE-9459-08241747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D06A-B623-43A0-BAD1-B66AE292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571D-B4E2-4652-96C7-AFF5B7AB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43E8-8F7B-40E0-9EC5-4D1F08D1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0228-0DAB-4ABE-A107-D48C2125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E7AB-369B-45FD-B29C-DFD45682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9A63-2C8A-45A5-85F1-C442F528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C343-3F16-4C0C-B1BE-399B09796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1800000" cy="1079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508720" y="692280"/>
            <a:ext cx="1801800" cy="936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627280" y="3429000"/>
            <a:ext cx="5761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manneken p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7667640" y="836640"/>
            <a:ext cx="720720" cy="5545080"/>
          </a:xfrm>
          <a:prstGeom prst="line">
            <a:avLst/>
          </a:prstGeom>
          <a:ln w="219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324000" y="-387360"/>
            <a:ext cx="9468000" cy="7245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2843280" y="2786040"/>
            <a:ext cx="3529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lisett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943680" y="4653000"/>
            <a:ext cx="2200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4/04/2007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979640" y="595008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427640" y="4869000"/>
            <a:ext cx="372888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n 1900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492360" y="4869000"/>
            <a:ext cx="565164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coon van brussel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995640" y="5084640"/>
            <a:ext cx="4199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et aanklede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55640" y="620640"/>
            <a:ext cx="7416720" cy="5545080"/>
          </a:xfrm>
          <a:prstGeom prst="rect">
            <a:avLst/>
          </a:prstGeom>
          <a:solidFill>
            <a:srgbClr val="bbe0e3"/>
          </a:solidFill>
          <a:ln w="6350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8604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4T19:57:23Z</dcterms:created>
  <dc:creator>catry lena</dc:creator>
  <dc:description/>
  <dc:language>en-US</dc:language>
  <cp:lastModifiedBy>Smets</cp:lastModifiedBy>
  <dcterms:modified xsi:type="dcterms:W3CDTF">2008-10-15T18:09:22Z</dcterms:modified>
  <cp:revision>5</cp:revision>
  <dc:subject/>
  <dc:title>Dia 1</dc:title>
</cp:coreProperties>
</file>