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24.gif" ContentType="image/gif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17.jpeg" ContentType="image/jpeg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9B9-32A7-4EEF-8A0B-9CA04494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716-632A-4F2A-8490-AB89779E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981-1188-48B5-AD3C-DE5BBAC0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DAC-FC27-4594-85C6-0FE76FCB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492-56A2-46BE-B0A9-6593947C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4BF-59A7-47FE-B854-C45B531E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B9A-1F78-4FE0-8939-8973FA2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37E-76A1-423F-AAA2-1C2C81D2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425-4BFB-409B-A66E-8995C7A8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5BA-A4EA-4F1C-B4D5-A208ABE9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9CC-13C0-458C-BCF0-6549C33A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68C-926C-484D-8D60-48BDB5FD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73DD-20BA-4AF2-A5E6-C4D536C77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1800000" cy="107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1801800" cy="93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627280" y="3429000"/>
            <a:ext cx="576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anneken p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7667640" y="836640"/>
            <a:ext cx="720720" cy="5545080"/>
          </a:xfrm>
          <a:prstGeom prst="line">
            <a:avLst/>
          </a:prstGeom>
          <a:ln w="219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24000" y="-387360"/>
            <a:ext cx="9468000" cy="724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843280" y="2786040"/>
            <a:ext cx="352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isett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943680" y="4653000"/>
            <a:ext cx="2200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4/04/200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27640" y="4869000"/>
            <a:ext cx="37288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1900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492360" y="4869000"/>
            <a:ext cx="5651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coon van brusse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995640" y="5084640"/>
            <a:ext cx="4199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 aankled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620640"/>
            <a:ext cx="7416720" cy="5545080"/>
          </a:xfrm>
          <a:prstGeom prst="rect">
            <a:avLst/>
          </a:prstGeom>
          <a:solidFill>
            <a:srgbClr val="bbe0e3"/>
          </a:solidFill>
          <a:ln w="635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8604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9:57:23Z</dcterms:created>
  <dc:creator>catry lena</dc:creator>
  <dc:description/>
  <dc:language>en-US</dc:language>
  <cp:lastModifiedBy>Smets</cp:lastModifiedBy>
  <dcterms:modified xsi:type="dcterms:W3CDTF">2008-10-15T18:09:22Z</dcterms:modified>
  <cp:revision>5</cp:revision>
  <dc:subject/>
  <dc:title>Dia 1</dc:title>
</cp:coreProperties>
</file>