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4A3-2D8E-4BE4-9ABC-0B263CFB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A98-CF8D-4532-A247-7C5DEC78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BDB-5CE3-47B7-AE79-CBC2DF99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5D0-1650-4B15-8703-3A294F0A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420-27AE-4A17-A98E-357C9DFE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B18-8E24-413B-9F14-CD2D9FC5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6E9-0F2D-4916-A804-1350C34F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ED6-1492-4982-8B72-59F59B3D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42E-4D01-45A8-B3B2-79F0C66A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7D3-A674-4617-BDD2-307E71D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620-8018-4B90-904D-0830CCB0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51F-3633-429C-AD7C-558426F6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A033F-C405-4958-AC1D-B076560C83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F8A61-F6DD-4526-BBE6-7FF38FBF1CF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2.xml"/><Relationship Id="rId7" Type="http://schemas.openxmlformats.org/officeDocument/2006/relationships/image" Target="../media/image3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6:04:08Z</dcterms:created>
  <dc:creator>최봉수</dc:creator>
  <dc:description/>
  <dc:language>en-US</dc:language>
  <cp:lastModifiedBy>맛있다 군만두</cp:lastModifiedBy>
  <dcterms:modified xsi:type="dcterms:W3CDTF">2023-07-13T07:47:23Z</dcterms:modified>
  <cp:revision>3</cp:revision>
  <dc:subject/>
  <dc:title>슬라이드 1</dc:title>
</cp:coreProperties>
</file>