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E79-5188-4A82-8426-74E506EF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F07-D12F-4F79-A379-10516ADF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27F-8462-4675-B622-2C4FE8EC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371-9AB6-4E29-8BFB-7D439EBC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5E3-7894-474D-A346-2EEC66BC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50A-F77D-40AF-8A18-E04F4F89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EC0-588C-42A9-8172-5E791C14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E11-5EDB-4BD2-963F-B3A62888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4F1-2244-495A-8DC0-2C6D14E5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4CF-9078-4370-9A40-6C38B260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01F-AE63-423C-B132-F99467B3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B5F-92CA-4282-B28F-4808B41E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491E0-CFD9-41B6-9C80-9AB2503FCE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EE253-A2FF-4E87-BCA8-23B88DBF8C3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6:04:08Z</dcterms:created>
  <dc:creator>최봉수</dc:creator>
  <dc:description/>
  <dc:language>en-US</dc:language>
  <cp:lastModifiedBy>맛있다 군만두</cp:lastModifiedBy>
  <dcterms:modified xsi:type="dcterms:W3CDTF">2023-07-13T07:47:23Z</dcterms:modified>
  <cp:revision>3</cp:revision>
  <dc:subject/>
  <dc:title>슬라이드 1</dc:title>
</cp:coreProperties>
</file>