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66D4-32C8-4D2D-A668-E78876B72E68}"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35C2-20CE-471A-8CE7-ECF47A579A16}"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FEFD-BD73-4FB5-9396-72DA3C73B5B1}"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A724-7CDC-43F1-8E3B-C854A5D756B3}"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1264-163F-401F-982C-DBD2180162DA}"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90A6-67AD-4AAF-B7C1-85B9DBEF41BC}"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BF05-9252-4589-9C62-FD4CA3F95EBE}"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2915-2C84-4791-A1D1-738CFBF1D980}"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C4F3-7A6B-41A7-9561-6A3EEEAA1511}"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4810-C66A-406A-92A2-AB090A37605D}"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1F5D-5DAB-4C24-8012-C7BD1D4E2B8B}"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DDE7-B509-4F52-B1A1-FE693AB5331D}"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4132-FFB0-421B-84F9-41D492E0C4B0}"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6A10-2C2A-474F-AAAF-E6B588FE85E2}"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A5EB-77FB-404D-BE0D-3097A5BC735B}"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3F64-5114-492A-B0A7-2DFB10F3758E}"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08FA-A141-4FD7-83B7-20CB90122EAF}"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792A-E067-48E8-AA70-AABDD9D2A2D4}" type="slidenum">
              <a:rPr b="0" lang="ar-JO"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7EA94-D17B-4528-B313-92B428B10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303D1-AB1C-404D-AC02-7C639D07B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8A4D7-3955-4E36-BC50-54B6525B2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83088-48C1-408C-BB38-F668374AA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C5E83-31DC-431D-A85A-DFEA2EE0C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611D5-6556-4A26-974E-311C50934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27C03-BBC3-461C-BDFE-BF4604F6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D13AD-BB04-4220-BE92-209E10990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7CE2-CF59-4F92-98C5-B98FB6411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1E89-DB50-47FB-9D43-A5B73A788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C93D-B9B9-408F-AA0C-6C1AE397C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6FE8C-DA75-48AA-9B9E-18AA9CBA5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7E65-6342-46D4-8823-E9CF311138C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F305-1E2E-456D-ACD6-D0866946B2EA}"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اريخ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A1B3-E657-47D0-A046-839DAB671C5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9"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0" name="عنصر نائب لرقم الشريحة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75B2-19DE-40ED-9575-F67D086EA30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11" descr="Imam Logo"/>
          <p:cNvPicPr/>
          <p:nvPr/>
        </p:nvPicPr>
        <p:blipFill>
          <a:blip r:embed="rId1"/>
          <a:stretch/>
        </p:blipFill>
        <p:spPr>
          <a:xfrm>
            <a:off x="2666880" y="914400"/>
            <a:ext cx="3314880" cy="4686480"/>
          </a:xfrm>
          <a:prstGeom prst="rect">
            <a:avLst/>
          </a:prstGeom>
          <a:ln w="0">
            <a:noFill/>
          </a:ln>
        </p:spPr>
      </p:pic>
      <p:sp>
        <p:nvSpPr>
          <p:cNvPr id="52"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184E-F1DD-403B-8D1A-7CEB72DCA4F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E07B-BFEC-4D75-8ECC-2AF89437C3E8}"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sis: refers to the presence of pathogens in blood or tissu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epsis: means the absence of pathogen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eptic techniques: used to eliminate pathogens e.g. hand washing, use of sterile gloves, masks and gowns, sterilization of surgical instruments, use of disinfectants and antiseptic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sepsis: is the prevention of inf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microorganisms </a:t>
            </a:r>
            <a:br>
              <a:rPr sz="4400"/>
            </a:br>
            <a:r>
              <a:rPr b="0" lang="en-US" sz="4400" spc="-1" strike="noStrike">
                <a:solidFill>
                  <a:srgbClr val="000000"/>
                </a:solidFill>
                <a:latin typeface="Arial"/>
              </a:rPr>
              <a:t>be killed</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94" name="PlaceHolder 2"/>
          <p:cNvSpPr>
            <a:spLocks noGrp="1"/>
          </p:cNvSpPr>
          <p:nvPr>
            <p:ph/>
          </p:nvPr>
        </p:nvSpPr>
        <p:spPr>
          <a:xfrm>
            <a:off x="711360" y="1523880"/>
            <a:ext cx="8059680" cy="4648320"/>
          </a:xfrm>
          <a:prstGeom prst="rect">
            <a:avLst/>
          </a:prstGeom>
          <a:noFill/>
          <a:ln w="0">
            <a:noFill/>
          </a:ln>
        </p:spPr>
        <p:txBody>
          <a:bodyPr lIns="90360" rIns="90360" tIns="44280" bIns="44280" anchor="t">
            <a:normAutofit fontScale="99000"/>
          </a:bodyPr>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naturation of proteins (e.g. wet heat, ethylene oxide)</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xidation (e.g. dry heat, hydrogen peroxide)</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tration</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ruption of DNA synthesis/repair (e.g. radiation)</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ference with protein synthesis (e.g. bleach)</a:t>
            </a:r>
            <a:endParaRPr b="0" lang="en-US" sz="3000" spc="-1" strike="noStrike">
              <a:solidFill>
                <a:srgbClr val="000000"/>
              </a:solidFill>
              <a:latin typeface="Arial"/>
            </a:endParaRPr>
          </a:p>
          <a:p>
            <a:pPr marL="339480" indent="-339480">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ruption of cell membranes (e.g. phenols)</a:t>
            </a:r>
            <a:endParaRPr b="0" lang="en-US" sz="3000" spc="-1" strike="noStrike">
              <a:solidFill>
                <a:srgbClr val="000000"/>
              </a:solidFill>
              <a:latin typeface="Arial"/>
            </a:endParaRPr>
          </a:p>
        </p:txBody>
      </p:sp>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3837-7D2F-41F8-9CA6-4A97F4879E3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EF65-0F20-4A5F-8AC2-2BF88C98B5CD}"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Ideal sterilization/disinfection process</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y efficaci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od penetr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atible with all materi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n-tox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ffective despite presence of organic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icult to make significant mistakes in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asily monitored</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F6C7-E2BA-4486-AE83-535AD631A4F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5374-EE3D-4D2B-B1C6-C38722BCD19B}"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3C0C-450B-4853-A790-C096CEFD36B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8B0B-2F04-449A-A835-686B301BE876}"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p:nvPr>
        </p:nvSpPr>
        <p:spPr>
          <a:xfrm>
            <a:off x="-360" y="228600"/>
            <a:ext cx="8991720" cy="5897520"/>
          </a:xfrm>
          <a:prstGeom prst="rect">
            <a:avLst/>
          </a:prstGeom>
          <a:noFill/>
          <a:ln w="0">
            <a:noFill/>
          </a:ln>
        </p:spPr>
        <p:txBody>
          <a:bodyPr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ods used to destroy or inhibit microbial life are either physical or chemical</a:t>
            </a:r>
            <a:endParaRPr b="0" lang="en-US" sz="3200" spc="-1" strike="noStrike">
              <a:solidFill>
                <a:srgbClr val="000000"/>
              </a:solidFill>
              <a:latin typeface="Arial"/>
            </a:endParaRPr>
          </a:p>
          <a:p>
            <a:pPr marL="812880" indent="-81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hysical Methods:</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eat: </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n efficient, practical and inexpensive method of sterilization. Two factors; temperature and time, determine the effectiveness of heat for sterilization</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al death point (TDP): of a microorganism is the lowest temperature that will kill all the organisms in a standardized pure culture within a specified period.</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mal death time (TDT): is the time necessary to sterilize a pure culture at a specified 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C8FC-15AC-491E-8735-D51F3B2D7E2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98D4-BD1F-4AD1-AD56-2C037C67086A}"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y Heat: by oven used to sterilize metals, glassware at 160-165</a:t>
            </a:r>
            <a:r>
              <a:rPr b="0" lang="en-US" sz="2400" spc="-1" strike="noStrike" baseline="30000">
                <a:solidFill>
                  <a:srgbClr val="000000"/>
                </a:solidFill>
                <a:latin typeface="Arial"/>
              </a:rPr>
              <a:t>o</a:t>
            </a:r>
            <a:r>
              <a:rPr b="0" lang="en-US" sz="2400" spc="-1" strike="noStrike">
                <a:solidFill>
                  <a:srgbClr val="000000"/>
                </a:solidFill>
                <a:latin typeface="Arial"/>
              </a:rPr>
              <a:t> C for two hours or at 170-180</a:t>
            </a:r>
            <a:r>
              <a:rPr b="0" lang="en-US" sz="2400" spc="-1" strike="noStrike" baseline="30000">
                <a:solidFill>
                  <a:srgbClr val="000000"/>
                </a:solidFill>
                <a:latin typeface="Arial"/>
              </a:rPr>
              <a:t>o</a:t>
            </a:r>
            <a:r>
              <a:rPr b="0" lang="en-US" sz="2400" spc="-1" strike="noStrike">
                <a:solidFill>
                  <a:srgbClr val="000000"/>
                </a:solidFill>
                <a:latin typeface="Arial"/>
              </a:rPr>
              <a:t> C for one hour</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neration (burning) is an effective means of destroying contaminated materials by using incinerator</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ming: the surface of metal forceps and wire bacteriological loops is an effective way to kill microorganis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B216-5BE3-455B-A2E7-FDEBFA3F9ED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0765-F458-4494-8F6C-E9CBBAA5827D}"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p:nvPr>
        </p:nvSpPr>
        <p:spPr>
          <a:xfrm>
            <a:off x="457200" y="304920"/>
            <a:ext cx="8229600" cy="579096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ist He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iling: at 100</a:t>
            </a:r>
            <a:r>
              <a:rPr b="0" lang="en-US" sz="2400" spc="-1" strike="noStrike" baseline="30000">
                <a:solidFill>
                  <a:srgbClr val="000000"/>
                </a:solidFill>
                <a:latin typeface="Arial"/>
              </a:rPr>
              <a:t>o </a:t>
            </a:r>
            <a:r>
              <a:rPr b="0" lang="en-US" sz="2400" spc="-1" strike="noStrike">
                <a:solidFill>
                  <a:srgbClr val="000000"/>
                </a:solidFill>
                <a:latin typeface="Arial"/>
              </a:rPr>
              <a:t>C kill vegetative microorganisms and viruses within 30 minutes. Syringes, needles and simple instruments may be disinfected by boiling</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spores are killed at 100</a:t>
            </a:r>
            <a:r>
              <a:rPr b="0" lang="en-US" sz="2400" spc="-1" strike="noStrike" baseline="30000">
                <a:solidFill>
                  <a:srgbClr val="000000"/>
                </a:solidFill>
                <a:latin typeface="Arial"/>
              </a:rPr>
              <a:t>o </a:t>
            </a:r>
            <a:r>
              <a:rPr b="0" lang="en-US" sz="2400" spc="-1" strike="noStrike">
                <a:solidFill>
                  <a:srgbClr val="000000"/>
                </a:solidFill>
                <a:latin typeface="Arial"/>
              </a:rPr>
              <a:t>C for 30 minutes, but other are not killed even if it’s boiled for several hours, e.g. Clostridium tetani, gas gangrene, botulism and hepatitis viru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E7D3-1677-4DFE-B775-3240A8626C1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D671-9CF5-40B6-8E29-3DAF75D0C2EC}"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under pressure (Autoclaving): an autoclave is a large metal pressure cooker that use steam under pressure to completely destroy all microbial life. Autoclaving at a pressure of 15 pounds per square inch (psi), at a temperature of 121.5</a:t>
            </a:r>
            <a:r>
              <a:rPr b="0" lang="ru-RU" sz="2400" spc="-1" strike="noStrike" baseline="30000">
                <a:solidFill>
                  <a:srgbClr val="000000"/>
                </a:solidFill>
                <a:latin typeface="Arial"/>
              </a:rPr>
              <a:t>о</a:t>
            </a:r>
            <a:r>
              <a:rPr b="0" lang="en-US" sz="2400" spc="-1" strike="noStrike">
                <a:solidFill>
                  <a:srgbClr val="000000"/>
                </a:solidFill>
                <a:latin typeface="Arial"/>
              </a:rPr>
              <a:t> C for 20 minutes kills vegetative and bacterial endospores and viruses as long as they are not protected by pus, feces, vomitus and blood.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sterilization of bacteriological med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FE7E-0BC4-447C-82F3-D8443E3FD12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1D89-7951-40DE-8CA1-6006733E150D}"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ing (Tyndallization): used for liquids which are destroyed by autoclaving e.g. sugar sol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f hot water (&gt;60</a:t>
            </a:r>
            <a:r>
              <a:rPr b="0" lang="en-US" sz="2400" spc="-1" strike="noStrike" baseline="30000">
                <a:solidFill>
                  <a:srgbClr val="000000"/>
                </a:solidFill>
                <a:latin typeface="Arial"/>
              </a:rPr>
              <a:t>o</a:t>
            </a:r>
            <a:r>
              <a:rPr b="0" lang="en-US" sz="2400" spc="-1" strike="noStrike">
                <a:solidFill>
                  <a:srgbClr val="000000"/>
                </a:solidFill>
                <a:latin typeface="Arial"/>
              </a:rPr>
              <a:t> C) with detergents or soup with agitation is an effective way to disinfect clothing, bedding and dish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ltraviolet L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sunlight kills unprotected vegetative organisms, but spores are resistant. The bactericidal activity of sunlight is caused by ultraviolet portion of spectrum. Glass is not proper to UV radi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shine destroys pathogens contaminated fields, pastures and areas used by livestock. The rays of the sun include the long infrared (heat) rays, the visible light rays and the shorter ultraviolet (UV) rays</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E0AA-DE31-4B09-A888-7F7F4A43F49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8F00-F09E-4F40-94F8-1CDA10E99DE5}"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 light is of 2500 angstroms wavelength and used widely in inoculating hoods, operating theaters and microbial lab. To reduce airborne infections. It acts most efficiently at temperature from 27</a:t>
            </a:r>
            <a:r>
              <a:rPr b="0" lang="en-US" sz="2400" spc="-1" strike="noStrike" baseline="30000">
                <a:solidFill>
                  <a:srgbClr val="000000"/>
                </a:solidFill>
                <a:latin typeface="Arial"/>
              </a:rPr>
              <a:t>o</a:t>
            </a:r>
            <a:r>
              <a:rPr b="0" lang="en-US" sz="2400" spc="-1" strike="noStrike">
                <a:solidFill>
                  <a:srgbClr val="000000"/>
                </a:solidFill>
                <a:latin typeface="Arial"/>
              </a:rPr>
              <a:t> C to 40</a:t>
            </a:r>
            <a:r>
              <a:rPr b="0" lang="en-US" sz="2400" spc="-1" strike="noStrike" baseline="30000">
                <a:solidFill>
                  <a:srgbClr val="000000"/>
                </a:solidFill>
                <a:latin typeface="Arial"/>
              </a:rPr>
              <a:t>o</a:t>
            </a:r>
            <a:r>
              <a:rPr b="0" lang="en-US" sz="2400" spc="-1" strike="noStrike">
                <a:solidFill>
                  <a:srgbClr val="000000"/>
                </a:solidFill>
                <a:latin typeface="Arial"/>
              </a:rPr>
              <a:t> C. UV light causes error in replication of DNA. UV radiation cross-link between adjacent pyramidines on the one and another strands forming pyramidines dimers. Its mutagenic activity on living cells is well known. </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 light does not penetrate glass and building materials and effective only in air and on surfac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EE82-A20E-4BA3-92E8-87A46428166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CCE1-D447-4C93-83D8-5F45FFF96E11}"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onizing Radi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orm of radiation has an energy content much higher than that of UV light and has a stronger disinfectant ac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ma rays emitted from Cobalt_60 are used commercially to sterilize disposable syringes, needles, pipettes, surgical sutures, catheters, plastic petri-dishes and other heat sensitive item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ood, it’s not used because it change food flavours and it’s not used in sterilizing enzymes, hormones, drugs because potency may reduced. Ionizing radiation produce breaks in single and double strand D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induce DNA lesion, kill the cells by interfering with DNA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MICROBIOLOGY</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 </a:t>
            </a:r>
            <a:r>
              <a:rPr b="0" lang="en-US" sz="3000" spc="-1" strike="noStrike">
                <a:solidFill>
                  <a:srgbClr val="002060"/>
                </a:solidFill>
                <a:latin typeface="Arial"/>
              </a:rPr>
              <a:t>Adnan S. Jaran BSc. MSc. PhD. AIBMS.</a:t>
            </a:r>
            <a:endParaRPr b="0" lang="en-US" sz="3000" spc="-1" strike="noStrike">
              <a:solidFill>
                <a:srgbClr val="000000"/>
              </a:solidFill>
              <a:latin typeface="Arial"/>
            </a:endParaRPr>
          </a:p>
        </p:txBody>
      </p:sp>
      <p:sp>
        <p:nvSpPr>
          <p:cNvPr id="5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F016-CB46-4636-A6F4-1FB3579D71C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B4EA-9295-44E9-949F-691962B0EEA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2"/>
          <p:cNvSpPr>
            <a:spLocks noGrp="1"/>
          </p:cNvSpPr>
          <p:nvPr>
            <p:ph type="title"/>
          </p:nvPr>
        </p:nvSpPr>
        <p:spPr>
          <a:xfrm>
            <a:off x="214200" y="857160"/>
            <a:ext cx="8888400" cy="249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RINCIPLES OF DISEASE I </a:t>
            </a:r>
            <a:r>
              <a:rPr b="1" lang="en-US" sz="4000" spc="-1" strike="noStrike">
                <a:solidFill>
                  <a:srgbClr val="000000"/>
                </a:solidFill>
                <a:latin typeface="Arial"/>
                <a:ea typeface="Times New Roman"/>
              </a:rPr>
              <a:t>BLOCK</a:t>
            </a:r>
            <a:r>
              <a:rPr b="1" lang="en-US" sz="4000" spc="-1" strike="noStrike">
                <a:solidFill>
                  <a:srgbClr val="000000"/>
                </a:solidFill>
                <a:latin typeface="Arial"/>
                <a:ea typeface="Times New Roman"/>
              </a:rPr>
              <a:t> </a:t>
            </a:r>
            <a:r>
              <a:rPr b="1" lang="en-US" sz="4000" spc="-1" strike="noStrike">
                <a:solidFill>
                  <a:srgbClr val="0000ff"/>
                </a:solidFill>
                <a:latin typeface="Arial"/>
                <a:ea typeface="Times New Roman"/>
              </a:rPr>
              <a:t>  </a:t>
            </a:r>
            <a:br>
              <a:rPr sz="1800"/>
            </a:br>
            <a:r>
              <a:rPr b="0" lang="en-US" sz="4000" spc="-1" strike="noStrike">
                <a:solidFill>
                  <a:srgbClr val="000000"/>
                </a:solidFill>
                <a:latin typeface="Arial"/>
                <a:ea typeface="Times New Roman"/>
              </a:rPr>
              <a:t>(PATH 122)</a:t>
            </a:r>
            <a:br>
              <a:rPr sz="1800"/>
            </a:br>
            <a:r>
              <a:rPr b="0" lang="en-US" sz="3600" spc="-1" strike="noStrike">
                <a:solidFill>
                  <a:srgbClr val="000000"/>
                </a:solidFill>
                <a:latin typeface="Arial"/>
                <a:ea typeface="Times New Roman"/>
              </a:rPr>
              <a:t>Credit Hours: 6 (2+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5411-4802-4606-B23C-877478FBE4E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6454-A6F7-4634-BF08-58679182E431}"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iltration:</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of various pore sizes are used to filter or separate cells, large viruses, bacteria from liquids or gases in which they are suspended</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with tiny pore sizes called millipore filters are used in laboratories to filter bacteria and viruses out of liquid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PA filters are used in biological safety cabinets to protect workers and the environment from contamin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9C62-EE0D-43D3-83AD-13313256253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2486-3638-46B4-BE4F-D9B7AF2A276B}"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533520" y="304920"/>
            <a:ext cx="8229600" cy="5867280"/>
          </a:xfrm>
          <a:prstGeom prst="rect">
            <a:avLst/>
          </a:prstGeom>
          <a:noFill/>
          <a:ln w="0">
            <a:noFill/>
          </a:ln>
        </p:spPr>
        <p:txBody>
          <a:bodyPr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sinfectants kill microorganisms:</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urface active soaps and detergents, alcohols and phenolic compounds</a:t>
            </a:r>
            <a:r>
              <a:rPr b="0" lang="ar-JO" sz="2400" spc="-1" strike="noStrike">
                <a:solidFill>
                  <a:srgbClr val="000000"/>
                </a:solidFill>
                <a:latin typeface="Arial"/>
              </a:rPr>
              <a:t> </a:t>
            </a:r>
            <a:r>
              <a:rPr b="0" lang="en-US" sz="2400" spc="-1" strike="noStrike">
                <a:solidFill>
                  <a:srgbClr val="000000"/>
                </a:solidFill>
                <a:latin typeface="Arial"/>
              </a:rPr>
              <a:t> destroy cell membranes</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alogens, hydrogen peroxide, formaldehyde and ethylene oxide destroy enzymes and structural proteins</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alts of heavy metals like organic mercury compounds, e.g. Mercurochrome and Thimersal have slight bactericidal activity. Mercuric chloride and silver nitrate are used as antiseptic in a dilution of (1:1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ological Monitors</a:t>
            </a:r>
            <a:endParaRPr b="0" lang="en-US" sz="4400" spc="-1" strike="noStrike">
              <a:solidFill>
                <a:srgbClr val="000000"/>
              </a:solidFill>
              <a:latin typeface="Arial"/>
            </a:endParaRPr>
          </a:p>
        </p:txBody>
      </p:sp>
      <p:sp>
        <p:nvSpPr>
          <p:cNvPr id="140" name="PlaceHolder 2"/>
          <p:cNvSpPr>
            <a:spLocks noGrp="1"/>
          </p:cNvSpPr>
          <p:nvPr>
            <p:ph/>
          </p:nvPr>
        </p:nvSpPr>
        <p:spPr>
          <a:xfrm>
            <a:off x="971280" y="1371600"/>
            <a:ext cx="7342200" cy="4587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eam: </a:t>
            </a:r>
            <a:r>
              <a:rPr b="0" i="1" lang="en-CA" sz="2800" spc="-1" strike="noStrike">
                <a:solidFill>
                  <a:srgbClr val="000000"/>
                </a:solidFill>
                <a:latin typeface="Arial"/>
              </a:rPr>
              <a:t>Geobacillus stearothermophilu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ry heat: </a:t>
            </a:r>
            <a:r>
              <a:rPr b="0" i="1" lang="en-CA" sz="2800" spc="-1" strike="noStrike">
                <a:solidFill>
                  <a:srgbClr val="000000"/>
                </a:solidFill>
                <a:latin typeface="Arial"/>
              </a:rPr>
              <a:t>B. atrophaeus (formerly B. subtili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TO: </a:t>
            </a:r>
            <a:r>
              <a:rPr b="0" i="1" lang="en-CA" sz="2800" spc="-1" strike="noStrike">
                <a:solidFill>
                  <a:srgbClr val="000000"/>
                </a:solidFill>
                <a:latin typeface="Arial"/>
              </a:rPr>
              <a:t>B. atropheu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acetic acid: </a:t>
            </a:r>
            <a:r>
              <a:rPr b="0" i="1" lang="en-CA" sz="2800" spc="-1" strike="noStrike">
                <a:solidFill>
                  <a:srgbClr val="000000"/>
                </a:solidFill>
                <a:latin typeface="Arial"/>
              </a:rPr>
              <a:t>G. stearothermophilu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asma (Sterrad): </a:t>
            </a:r>
            <a:r>
              <a:rPr b="0" i="1" lang="en-CA" sz="2800" spc="-1" strike="noStrike">
                <a:solidFill>
                  <a:srgbClr val="000000"/>
                </a:solidFill>
                <a:latin typeface="Arial"/>
              </a:rPr>
              <a:t>G. stearothermophilus</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Ontario guidelines: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Steam: monitor daily, every load with implantables</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ETO: monitor every load</a:t>
            </a:r>
            <a:endParaRPr b="0" lang="en-US" sz="2400" spc="-1" strike="noStrike">
              <a:solidFill>
                <a:srgbClr val="000000"/>
              </a:solidFill>
              <a:latin typeface="Arial"/>
            </a:endParaRPr>
          </a:p>
        </p:txBody>
      </p:sp>
      <p:sp>
        <p:nvSpPr>
          <p:cNvPr id="1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7D6B-D2B0-445B-95AF-50581749DE0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4CCC-99A0-45AE-BEE2-F056841C97E9}"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4C07-413A-459F-98C8-089FA4E315C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DF5C-C84C-4ED1-B313-B62339B152AA}"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p:nvPr>
        </p:nvSpPr>
        <p:spPr>
          <a:xfrm>
            <a:off x="457200" y="380520"/>
            <a:ext cx="8229600" cy="5745240"/>
          </a:xfrm>
          <a:prstGeom prst="rect">
            <a:avLst/>
          </a:prstGeom>
          <a:noFill/>
          <a:ln w="0">
            <a:noFill/>
          </a:ln>
        </p:spPr>
        <p:txBody>
          <a:bodyPr anchor="t">
            <a:normAutofit/>
          </a:bodyPr>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hemical Agents:</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fectants should be safe in use, it should be non-toxic, has no irritating vapour, staining properties and corrosive effects.</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be water soluble, stable in aqueous solution and maintain potency for long period of time.</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have a wide or broad antimicrobial spectrum, fast acting</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not be affected by presence of organic matter</a:t>
            </a:r>
            <a:endParaRPr b="0" lang="en-US" sz="2400" spc="-1" strike="noStrike">
              <a:solidFill>
                <a:srgbClr val="000000"/>
              </a:solidFill>
              <a:latin typeface="Arial"/>
            </a:endParaRPr>
          </a:p>
          <a:p>
            <a:pPr marL="812880" indent="-812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be inexpensive and odor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BE15-24C8-442A-9889-ECC450B1093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4BE8-CA0D-4394-8678-48738B031D4F}"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that influence efficacy of disinfection/sterilization</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ior cleaning of the object or surface to be disinf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esence of organic matters e.g. feces, bloo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mitus, p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type and level of microbial contami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concentration of the disinfect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he contact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he physical nature of the object being disinfec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ooth, rou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Temperature and p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600200"/>
            <a:ext cx="8686800" cy="3200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rinciples of sterilization and disinfection</a:t>
            </a:r>
            <a:br>
              <a:rPr sz="6000"/>
            </a:br>
            <a:endParaRPr b="0" lang="en-US" sz="60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3FBA-FF3F-4F65-8188-EF3BBDAD6B5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D7C2-8D2B-4DD4-A5CD-A41F258B734B}"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Objectives</a:t>
            </a:r>
            <a:endParaRPr b="0" lang="en-US" sz="4400" spc="-1" strike="noStrike">
              <a:solidFill>
                <a:srgbClr val="000000"/>
              </a:solidFill>
              <a:latin typeface="Arial"/>
            </a:endParaRPr>
          </a:p>
        </p:txBody>
      </p:sp>
      <p:sp>
        <p:nvSpPr>
          <p:cNvPr id="64" name=""/>
          <p:cNvSpPr txBox="1"/>
          <p:nvPr/>
        </p:nvSpPr>
        <p:spPr>
          <a:xfrm>
            <a:off x="456840" y="1599840"/>
            <a:ext cx="8458200" cy="48006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e Sterilization, Disinfection, </a:t>
            </a:r>
            <a:r>
              <a:rPr b="0" lang="en-US" sz="2800" spc="-1" strike="noStrike">
                <a:solidFill>
                  <a:srgbClr val="000000"/>
                </a:solidFill>
                <a:latin typeface="Arial"/>
              </a:rPr>
              <a:t>Antiseptics, Sanitization and Pasteuriz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a:t>
            </a:r>
            <a:r>
              <a:rPr b="0" lang="en-US" sz="2800" spc="-1" strike="noStrike">
                <a:solidFill>
                  <a:srgbClr val="000000"/>
                </a:solidFill>
                <a:latin typeface="Arial"/>
              </a:rPr>
              <a:t>Factors that influence efficacy of disinfection/steriliz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ethods used in sterilization</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a:t>
            </a:r>
            <a:r>
              <a:rPr b="0" lang="en-CA" sz="2800" spc="-1" strike="noStrike">
                <a:solidFill>
                  <a:srgbClr val="000000"/>
                </a:solidFill>
                <a:latin typeface="Arial"/>
              </a:rPr>
              <a:t>Biological Monitor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ethods used to sterilize liquids and heat sensitive materia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DB61-2E8A-4D4F-B852-123185EC27B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6CD1-AFF8-452B-A0A9-A5C71B28EA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14E3-2911-4D91-96AA-BBB11A012EC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2FE3-DD94-4CB7-A6B6-16B9C0E9E145}"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ion growth of microbes in vitro</a:t>
            </a:r>
            <a:endParaRPr b="0" lang="en-US" sz="3200" spc="-1" strike="noStrike">
              <a:solidFill>
                <a:srgbClr val="000000"/>
              </a:solidFill>
              <a:latin typeface="Arial"/>
            </a:endParaRPr>
          </a:p>
        </p:txBody>
      </p:sp>
      <p:sp>
        <p:nvSpPr>
          <p:cNvPr id="72"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3333cc"/>
                </a:solidFill>
                <a:latin typeface="Arial"/>
              </a:rPr>
              <a:t>Sterilization</a:t>
            </a:r>
            <a:r>
              <a:rPr b="0" lang="en-US" sz="2400" spc="-1" strike="noStrike">
                <a:solidFill>
                  <a:srgbClr val="000000"/>
                </a:solidFill>
                <a:latin typeface="Arial"/>
              </a:rPr>
              <a:t>: is the complete destruction of all living microbes including cells, spores and viruses.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rilization could be accomplished by different method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ry heat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utoclaving (steam under pressure)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Gas (ethlene oxid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hemical methods: by formaldehyd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adiation: by ultraviolet light and gamma r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F0CB-F946-4FE6-9A8D-517379D7FFF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434A-C781-4962-AEEC-C043621972A0}"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3333cc"/>
                </a:solidFill>
                <a:latin typeface="Arial"/>
              </a:rPr>
              <a:t>Disinfection</a:t>
            </a:r>
            <a:r>
              <a:rPr b="0" lang="en-US" sz="2400" spc="-1" strike="noStrike">
                <a:solidFill>
                  <a:srgbClr val="000000"/>
                </a:solidFill>
                <a:latin typeface="Arial"/>
              </a:rPr>
              <a:t>: is the destruction or removal of most pathogens from living objects by physical and chemical methods</a:t>
            </a:r>
            <a:endParaRPr b="0" lang="en-US" sz="2400" spc="-1" strike="noStrike">
              <a:solidFill>
                <a:srgbClr val="000000"/>
              </a:solidFill>
              <a:latin typeface="Arial"/>
            </a:endParaRPr>
          </a:p>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isinfectants</a:t>
            </a:r>
            <a:r>
              <a:rPr b="0" lang="en-US" sz="2400" spc="-1" strike="noStrike">
                <a:solidFill>
                  <a:srgbClr val="000000"/>
                </a:solidFill>
                <a:latin typeface="Arial"/>
              </a:rPr>
              <a:t>: chemicals used to disinfect inanimate objects e.g. bedside equipment and operating room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fectants are strong chemical substances that cannot be used in living tissue</a:t>
            </a:r>
            <a:endParaRPr b="0" lang="en-US" sz="2400" spc="-1" strike="noStrike">
              <a:solidFill>
                <a:srgbClr val="000000"/>
              </a:solidFill>
              <a:latin typeface="Arial"/>
            </a:endParaRPr>
          </a:p>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ntiseptics</a:t>
            </a:r>
            <a:r>
              <a:rPr b="0" lang="en-US" sz="2400" spc="-1" strike="noStrike">
                <a:solidFill>
                  <a:srgbClr val="000000"/>
                </a:solidFill>
                <a:latin typeface="Arial"/>
              </a:rPr>
              <a:t>: are solutions used to disinfect skin and other living tissues</a:t>
            </a:r>
            <a:endParaRPr b="0" lang="en-US" sz="2400" spc="-1" strike="noStrike">
              <a:solidFill>
                <a:srgbClr val="000000"/>
              </a:solidFill>
              <a:latin typeface="Arial"/>
            </a:endParaRPr>
          </a:p>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anitization</a:t>
            </a:r>
            <a:r>
              <a:rPr b="0" lang="en-US" sz="2400" spc="-1" strike="noStrike">
                <a:solidFill>
                  <a:srgbClr val="000000"/>
                </a:solidFill>
                <a:latin typeface="Arial"/>
              </a:rPr>
              <a:t>:  is the reduction of microbial populations to levels considered safe by public health standards e.g. such as those applied to restaur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D51B-15B5-418C-A49A-FFBFB1A8BDD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F1DA-AFE0-45FE-9F73-E498E6CE3C8A}"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nSpc>
                <a:spcPct val="12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asteurization</a:t>
            </a:r>
            <a:r>
              <a:rPr b="0" lang="en-US" sz="2400" spc="-1" strike="noStrike">
                <a:solidFill>
                  <a:srgbClr val="000000"/>
                </a:solidFill>
                <a:latin typeface="Arial"/>
              </a:rPr>
              <a:t>: is a method of disinfecting liquids by heat, e.g. milk</a:t>
            </a:r>
            <a:r>
              <a:rPr b="0" lang="ar-JO" sz="2400" spc="-1" strike="noStrike">
                <a:solidFill>
                  <a:srgbClr val="000000"/>
                </a:solidFill>
                <a:latin typeface="Arial"/>
              </a:rPr>
              <a:t> </a:t>
            </a:r>
            <a:r>
              <a:rPr b="0" lang="en-US" sz="2400" spc="-1" strike="noStrike">
                <a:solidFill>
                  <a:srgbClr val="000000"/>
                </a:solidFill>
                <a:latin typeface="Arial"/>
              </a:rPr>
              <a:t>and beverages pasteuriz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urization: is a process by which milk is heated to a point which kill all potential pathogens and then cooling to discourage growth of remaining M.O.</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ethods were followed: slow pasteurization, milk is heated to 62.78</a:t>
            </a:r>
            <a:r>
              <a:rPr b="0" lang="en-US" sz="2400" spc="-1" strike="noStrike" baseline="30000">
                <a:solidFill>
                  <a:srgbClr val="000000"/>
                </a:solidFill>
                <a:latin typeface="Arial"/>
              </a:rPr>
              <a:t>o </a:t>
            </a:r>
            <a:r>
              <a:rPr b="0" lang="en-US" sz="2400" spc="-1" strike="noStrike">
                <a:solidFill>
                  <a:srgbClr val="000000"/>
                </a:solidFill>
                <a:latin typeface="Arial"/>
              </a:rPr>
              <a:t>C for 30 minutes. In flash method milk is heated to 71.67</a:t>
            </a:r>
            <a:r>
              <a:rPr b="0" lang="en-US" sz="2400" spc="-1" strike="noStrike" baseline="30000">
                <a:solidFill>
                  <a:srgbClr val="000000"/>
                </a:solidFill>
                <a:latin typeface="Arial"/>
              </a:rPr>
              <a:t>o </a:t>
            </a:r>
            <a:r>
              <a:rPr b="0" lang="en-US" sz="2400" spc="-1" strike="noStrike">
                <a:solidFill>
                  <a:srgbClr val="000000"/>
                </a:solidFill>
                <a:latin typeface="Arial"/>
              </a:rPr>
              <a:t>C for 15 seconds. The milk in both methods then cooled to +4</a:t>
            </a:r>
            <a:r>
              <a:rPr b="0" lang="en-US" sz="2400" spc="-1" strike="noStrike" baseline="30000">
                <a:solidFill>
                  <a:srgbClr val="000000"/>
                </a:solidFill>
                <a:latin typeface="Arial"/>
              </a:rPr>
              <a:t>o </a:t>
            </a:r>
            <a:r>
              <a:rPr b="0" lang="en-US" sz="2400" spc="-1" strike="noStrike">
                <a:solidFill>
                  <a:srgbClr val="000000"/>
                </a:solidFill>
                <a:latin typeface="Arial"/>
              </a:rPr>
              <a:t>C abruptly.</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59F6-4F05-48A7-873A-F04B3FAFB7F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FCD8-8C73-44A2-928F-FE5707CD01CE}"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icidal agents, biocidal agents, microbicidal agents are disinfectants that kill bacteria but not necessarily endospo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ricidal agents are required to kill bacterial endospo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gicidal: kill fungi including fungal spo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icidal agents: are used to kill algae in swimming pool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icidal agents: destroy virus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istatic agents: is a drug or chemicals that inhibits growth and reproduction of microorganis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5D16-C512-4467-9383-A74D53CE586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2574-B321-41FE-B0F2-4FA0AD84BBF1}" type="slidenum">
              <a:rPr b="0" lang="ar-JO"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cteriostatic agents: is the drug which inhibits the metabolism and reproduction of bacteria (drugs used to treat bacterial diseases are bacteriostatic or bacteriocid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ophilization: is the process that combines dehydration (drying) and freezing. It’s a microbistatic technique used to prevent microbes from reproducing and used for storage purpose e.g. microbes, vaccines, antibiotics, antisera, foo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mam</dc:creator>
  <dc:description/>
  <dc:language>en-US</dc:language>
  <cp:lastModifiedBy>user</cp:lastModifiedBy>
  <dcterms:modified xsi:type="dcterms:W3CDTF">2013-12-15T17:54:36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