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CE53-0DD7-49B9-BBCE-C3293B9E81C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C5B5-473E-48B2-B524-0F97E657D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4BD3-135E-477D-A8FA-6326C66E8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6563-88D1-4515-B4C9-166012906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DBA1-AC9A-49F9-9D9C-883496E4B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F730-6593-4740-9452-37C30AA5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60BD-C3B2-4628-BCF9-D5B5CBE0B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FC87-1DBE-4DFF-A747-770BD2ACE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CF38-6363-4641-BC0C-9643C3233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D7B4C-2A04-4F10-A2BB-D315C814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F5B3-29D9-4DE9-B24E-D3B53ED4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4BF6-3D7E-418F-8D5D-058BB3B5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D678-E530-4E0E-A047-2EF24AA9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04ED6-A4C1-4859-B134-0F48E125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4FB4-933C-4139-B058-F392D277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760F-5002-48F6-86FC-3E72C771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EE1F9-E36F-497B-9F23-4FC8B73E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3F74-9FDF-4C35-8591-6F095B4C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D4B5-EC20-4944-BC4D-437B9CB1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DA46-A15B-4DF8-A0BF-C3DD1FCC1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792D-C6E5-447B-A3F8-BC5A0D586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455D-ED2A-4254-9772-CC15E7CF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1018-D477-4944-B76B-0601B00F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C8AC-490E-4210-A0C7-770C04B5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A780-AB0D-4129-85B6-E5F2A09CD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BBA4-8410-4A74-B4A1-F5F1D542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E9D5-027D-45E2-A273-25ABAC45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2684-8817-46CE-BAF9-FE6480F3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B8B0-E78B-430E-ABAD-543CE8FE18F3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AE31-456F-41A8-812D-39C68CDB631C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60E9-20E1-4590-B5D5-F7080E4DDFE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عنصر نائب للتاريخ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DA34-DF8E-4094-AA2F-57A2C8CA405C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عنصر نائب للتذييل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عنصر نائب لرقم الشريحة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4240-3B1B-40CF-980D-B4A58FC82169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1" descr="Imam Logo"/>
          <p:cNvPicPr/>
          <p:nvPr/>
        </p:nvPicPr>
        <p:blipFill>
          <a:blip r:embed="rId1"/>
          <a:stretch/>
        </p:blipFill>
        <p:spPr>
          <a:xfrm>
            <a:off x="2666880" y="914400"/>
            <a:ext cx="3314880" cy="4686480"/>
          </a:xfrm>
          <a:prstGeom prst="rect">
            <a:avLst/>
          </a:prstGeom>
          <a:ln w="0">
            <a:noFill/>
          </a:ln>
        </p:spPr>
      </p:pic>
      <p:sp>
        <p:nvSpPr>
          <p:cNvPr id="93" name="مستطيل 5"/>
          <p:cNvSpPr/>
          <p:nvPr/>
        </p:nvSpPr>
        <p:spPr>
          <a:xfrm>
            <a:off x="0" y="457200"/>
            <a:ext cx="9144000" cy="50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1f497d"/>
                </a:solidFill>
                <a:latin typeface="Times New Roman"/>
                <a:cs typeface="Times New Roman"/>
              </a:rPr>
              <a:t>بسم الله الرحمن الرحي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stellar"/>
              </a:rPr>
              <a:t>Al-Imam Mohammed Bin Saud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stellar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stellar"/>
              </a:rPr>
              <a:t>College of 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tach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mbria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ycocaly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o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ction dis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al spi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1030" descr="f13-5_mechanisms_of_adh_c"/>
          <p:cNvPicPr/>
          <p:nvPr/>
        </p:nvPicPr>
        <p:blipFill>
          <a:blip r:embed="rId1"/>
          <a:stretch/>
        </p:blipFill>
        <p:spPr>
          <a:xfrm>
            <a:off x="841320" y="1600200"/>
            <a:ext cx="34988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028" descr="f13-3_an_overview_of_th_c"/>
          <p:cNvPicPr/>
          <p:nvPr/>
        </p:nvPicPr>
        <p:blipFill>
          <a:blip r:embed="rId1"/>
          <a:stretch/>
        </p:blipFill>
        <p:spPr>
          <a:xfrm>
            <a:off x="609480" y="1447920"/>
            <a:ext cx="8001000" cy="48909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f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Calibri"/>
              </a:rPr>
              <a:t>Koch’s postulat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ical way to determine if a particular organism causes dis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be is present in all affected individu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ism is isolated from a sick individ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organism is introduced into new hosts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96040" indent="-447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get sick, too- and same organism i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96040" indent="-447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olated from th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96040" indent="-447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all organism can be grown in pure cul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96040" indent="-4478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 tes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457F-D815-4D3F-B604-1CC156F2FDE3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F5C6-7FC3-4155-BAF0-D0A534EC236C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Disease </a:t>
            </a:r>
            <a:r>
              <a:rPr b="0" lang="en-US" sz="3500" spc="-1" strike="noStrike">
                <a:solidFill>
                  <a:srgbClr val="ffd50e"/>
                </a:solidFill>
                <a:latin typeface="Calibri"/>
              </a:rPr>
              <a:t>Etiology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: Koch’s Postulat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f13-17_kochs_postulates_c"/>
          <p:cNvPicPr/>
          <p:nvPr/>
        </p:nvPicPr>
        <p:blipFill>
          <a:blip r:embed="rId1"/>
          <a:stretch/>
        </p:blipFill>
        <p:spPr>
          <a:xfrm>
            <a:off x="228600" y="996840"/>
            <a:ext cx="8686800" cy="55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ceptions to Koch’s Postul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bacteria and viruses cannot be cultivated in pure cul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pathologies are caused by several organisms: nephritis, pneumonia, meningitis, periton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itis” = inflam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organisms cause several diseases 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taphylococcus aure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thical consid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ECC9-690E-4D7F-9562-57EB5E96E9FA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8D5B-0F67-46B7-A73A-5F47B01CB9CB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Calibri"/>
              </a:rPr>
              <a:t>Molecular postul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066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Virulence FACTORS can be identified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Virulence factor is only in pathogenic strain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If factor is mutated organism becomes les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virulent; when transferred to a non-pathogenic organism, the organism becomes pathogenic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Immune response to pathogenic factor should be protectiv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D811-1E1F-4E8E-A0BC-0500F18FC5AD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713A-B2C8-40A2-AB07-64AF3DD7979F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4f6228"/>
                </a:solidFill>
                <a:latin typeface="Calibri"/>
              </a:rPr>
              <a:t>Mechanisms of pathogenicit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837720"/>
            <a:ext cx="86868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oxin production (endotoxin or exotoxin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oxins can be produced in body or ingest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lonization (usually GI or respiratory tract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vasion of tissues (avoids immune system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r some combination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B28E-5E14-4D3A-B6EF-3F088CE48715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0E81-C6DA-4ADA-8447-739339CF6961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4f6228"/>
                </a:solidFill>
                <a:latin typeface="Calibri"/>
              </a:rPr>
              <a:t>How do bacteria establish infections</a:t>
            </a:r>
            <a:r>
              <a:rPr b="1" lang="en-US" sz="4400" spc="-1" strike="noStrike">
                <a:solidFill>
                  <a:srgbClr val="4f6228"/>
                </a:solidFill>
                <a:latin typeface="Calibri"/>
              </a:rPr>
              <a:t>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hesion (adherence) is often a necessary first ste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hesins bind to specific molecules on cell surface- contributes to tissue specif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.e.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.col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urinary tract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eisser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reproductive tr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E821-88FE-42E1-8A68-E0CE0CA345A7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8775-EDE2-4DB5-A41F-E09041227227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1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onization- requires ability to obtain food and evade immune mechanis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tigenic variation, IgA prote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deroph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retion of substances that enable them to permeate host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C5AD-5601-4B2C-BFF6-D406AD03DB2A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8AD6-E600-4530-8A8D-C37725175C48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do microbes invade bod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in- through lesions or vectors (bit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bacteria have developed ways to get through innate immune barriers or by crossing epithelia (cells specialized for engulfment and/or transpor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bacteria hide inside host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e.g.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ister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BB3D-1FF9-4921-B043-15E2D5D4D2D8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1887-66B1-438D-B124-C0948BEAC526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Calibri"/>
              </a:rPr>
              <a:t>MICROBIOLOG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2060"/>
                </a:solidFill>
                <a:latin typeface="Calibri"/>
              </a:rPr>
              <a:t>Adnan S. Jaran BSc. MSc. PhD. AIBM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0B3F-A4AE-4217-93B1-12A1179C7889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A4D9-9E72-47E4-960B-5578D9BB3ECD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14200" y="1165320"/>
            <a:ext cx="8888400" cy="18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PRINCIPLES OF DISEASE I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BLOCK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  <a:ea typeface="Times New Roman"/>
              </a:rPr>
              <a:t>  </a:t>
            </a:r>
            <a:br>
              <a:rPr sz="18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(PATH 111)</a:t>
            </a:r>
            <a:br>
              <a:rPr sz="18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Credit Hours: 5 (2+2+1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84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oiding immune mechanis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m-positive organisms are not sensitive to complement-mediated 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Gram-negatives use complement receptors or special glycosy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oiding phagocytosis, capsules; complement inacti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g. streptococci, staphylococ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654D-CB82-4238-8CCB-B0C7C5FB88D5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38E7-511C-4209-B3FD-05C4B1B8067C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84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viving phagocyt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isteria, Shigell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et out of phagos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almonell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prevent fusion with lysos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gA prote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tigenic variation; mimicking host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streptococci good at th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CF47-C252-4938-95FC-6C32216DAFC6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258E-AC57-4107-A3F8-39A44EE02DBF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4f6228"/>
                </a:solidFill>
                <a:latin typeface="Calibri"/>
              </a:rPr>
              <a:t>How do toxins damage host</a:t>
            </a:r>
            <a:r>
              <a:rPr b="0" lang="en-US" sz="4400" spc="-1" strike="noStrike">
                <a:solidFill>
                  <a:srgbClr val="4f6228"/>
                </a:solidFill>
                <a:latin typeface="Calibri"/>
              </a:rPr>
              <a:t>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6840" y="990360"/>
            <a:ext cx="84582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eurotoxins- interfere with transmission of nervous sign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C. botulinum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 prevents release of acetylcholine (flaccid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. tetani - blocks inhibitory neurons spasti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9746-258A-4DA3-8770-252EE03CE1B1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42A2-3A35-4528-A4E2-744AE0F2CD52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130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28600" y="-360"/>
            <a:ext cx="876312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nterotoxins- oversecretion of fluids in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estine-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E. coli; V. cholera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ytotoxi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B. anthracis, B. pertussi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 oversecre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C. diphtheriae, E. coli O157:H7, S.dysenteriae,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hibit protein synthe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6542-1CE2-46B2-A7E7-570B37BC0C91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2294-DEC9-4324-9456-58C0C3B20BE8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mbrane-damaging toxins have different structure, directly attacking cell membr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hemolytic bacteria (can lyse other membranes beside RBC membran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8966-6432-45EF-8F99-058F9F59B0E2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A728-71A2-44B6-BE86-C72F7F1F6F91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130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51920" y="304560"/>
            <a:ext cx="8991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erantigens break the rules of antigen specif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all that T cells recognize antigen “presented” to them by MHC Class II on AP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erantigens bind differently; can activate may different T cells simultaneous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cess stimulation can cause nausea, vomiting and sometimes sh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. aure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xin is well characteriz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19B2-DBB6-46A8-BBC7-1C857A23120B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54C9-DE26-47C8-9AF9-705A275D46A5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130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0" y="304920"/>
            <a:ext cx="91440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exotoxins are not heat-stable (except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. aure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uperantige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exotoxins have been isolated and are used (as toxoids) for vacc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dotoxin is actually component of Gram-negatives (LPS), so cannot be isol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mage is due to inflammatory response to it can be fa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imul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moebocyte assay is used to test for endotox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7026-5424-4089-8E03-F14182D163E2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2F07-C23D-4C3C-8847-6BD8403F7241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1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990720"/>
            <a:ext cx="899172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us immune response itself can contribute to disea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lam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toimmune disease (cross-reactive antibod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mune complex disease (type III hypersensitivit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CEE1-EA37-46E8-9099-1B0CCF243DE7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00B0-4CD0-4BC6-BC47-0517FCE00F6A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Title 1" descr=""/>
          <p:cNvPicPr/>
          <p:nvPr/>
        </p:nvPicPr>
        <p:blipFill>
          <a:blip r:embed="rId1"/>
          <a:stretch/>
        </p:blipFill>
        <p:spPr>
          <a:xfrm>
            <a:off x="1670040" y="1603440"/>
            <a:ext cx="7254720" cy="2262240"/>
          </a:xfrm>
          <a:prstGeom prst="rect">
            <a:avLst/>
          </a:prstGeom>
          <a:ln w="0">
            <a:noFill/>
          </a:ln>
        </p:spPr>
      </p:pic>
      <p:pic>
        <p:nvPicPr>
          <p:cNvPr id="217" name="Subtitle 2" descr=""/>
          <p:cNvPicPr/>
          <p:nvPr/>
        </p:nvPicPr>
        <p:blipFill>
          <a:blip r:embed="rId2"/>
          <a:stretch/>
        </p:blipFill>
        <p:spPr>
          <a:xfrm>
            <a:off x="-334800" y="3535200"/>
            <a:ext cx="8418240" cy="2725920"/>
          </a:xfrm>
          <a:prstGeom prst="rect">
            <a:avLst/>
          </a:prstGeom>
          <a:ln w="0">
            <a:noFill/>
          </a:ln>
        </p:spPr>
      </p:pic>
      <p:sp>
        <p:nvSpPr>
          <p:cNvPr id="218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802A-EE1C-4244-892E-FCF6D1E79887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5B1A-255C-4CF5-B192-9BE68697653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4f6228"/>
                </a:solidFill>
                <a:latin typeface="Arial Black"/>
              </a:rPr>
              <a:t>Bacteria - host interaction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01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8F1A-03A4-46DF-A011-1D0488065D50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8C42-C5B0-4B22-B631-295F8778D161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ow how does an organism cause disea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ow the pathogenesis of infectious dis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ow Koch’s postul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ow the exceptions to Koch’s postul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ow the mechanisms of pathogen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ow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how do microbes invade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ow how do toxins damage hos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A140-54F0-401F-811B-E8AEAAEBD4CF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7A5E-8BCD-4836-A33A-6A217303A36F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4f6228"/>
                </a:solidFill>
                <a:latin typeface="Calibri"/>
              </a:rPr>
              <a:t>Host-microbe interac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52280" y="1143000"/>
            <a:ext cx="87631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y do some organisms cause disease while others do no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athogens cause disea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evade immune syst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cause tissue dam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ther organisms harmlessly colonize the bod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4A2B-F969-4A47-838D-70B76C3F8E73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6F67-DE7B-46C7-B060-BB207F88ABDB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84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28240" y="380520"/>
            <a:ext cx="89154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in and mucosa are barriers, but also host normal fl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mbiotic- benefit bo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vitamin B- and K-producing bac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generally protective role of normal fl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ensal- one partner benefits; the other 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aff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site- one benefits, the other is harm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m usually reserved for protozoa and helminth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997E-F824-446E-97E8-7C76262B9BBC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A0CE-CB92-4D87-BA8F-EB360718EDBB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4f6228"/>
                </a:solidFill>
                <a:latin typeface="Calibri"/>
              </a:rPr>
              <a:t>Pathogenesis of infectious diseas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es an organism cause disea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impairment of func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course of disea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is disease sprea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is the organism shown to be pathogenic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it always pathogenic (primary pathogen) 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is susceptible people (opportunisti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virulent is the infectious organis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00FE-56DF-4111-B1FB-1B2E4603B26F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7AA3-2680-4CE0-8EA1-AE8EAEA76C95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547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ntagious (communicable) diseases are easily spre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metimes the infectious dose is very low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therefore easier to sprea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fectious dose can be calculat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AD58-AF25-4D90-9411-FF9B9FE1ABF6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F97B-5DFB-4BAF-96FC-A5A0C53DA0E7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ls of En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k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astrointestinal Trac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spirato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rogenit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ia Placen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Parenteral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(injection, bit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267A-AF14-488B-AC02-066A715DA88A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5BAE-D45D-4D44-81A8-7FAFAA0A58C6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mam</cp:lastModifiedBy>
  <dcterms:modified xsi:type="dcterms:W3CDTF">2013-12-15T17:00:52Z</dcterms:modified>
  <cp:revision>2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