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8898-9F75-4B59-B863-8FA472FC9B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27F-5C8E-4AF4-AECF-E348F4F63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766-49C8-4FBB-A315-2A4FC045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B28-C0FA-4BBA-885C-432C537C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2FA-CBD4-4F63-8646-E9B9905C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663-69BE-4553-A8B8-D001B1DA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BAE-FD12-4644-BF19-30B824DF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185-C658-4381-9D99-424C29C9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0D00-6EB7-44CE-8190-28674B02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E68F-CC17-4FBF-8334-16A0222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AEA2-7B77-437F-AB02-2A49190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D491-2B28-4596-92AA-286B4DB4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1BE-7BA5-474D-8965-E83A27BC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DED-655E-4502-9B11-B30B1972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5E1-42EB-42B1-9DFB-A212E6B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9A1-C89D-4F6A-B44A-FBB665E7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ACD4-C8F6-4035-9D63-D529592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B0A-C487-421B-A528-92ECE0E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891-AA0E-458E-B3D0-D520075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C756-A100-49BC-8CD7-B5E40A4B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961-3167-45C3-AF69-0AB9E427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5D1-7FA3-449F-9C45-15D5477D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E9F-A7E8-45FD-BB80-5CF2230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CB8-216C-46BB-B51A-5199726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957-762B-416A-A5C7-3367883A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154-B693-4A75-85AC-706AB8FB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31E-1263-4FE1-96DE-2AC7701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FA8-65AE-4C68-9D1A-B9AA0247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11A-47DA-476C-881D-CF142890FB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55C0-144B-4B0C-8A05-FD09FD47479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0903-16F1-4092-AA4A-F422F3C010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اريخ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E6A-B650-47E4-8DBB-028BD8EB9CB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085B-04F0-4B1C-823C-666BB1DAEF2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93" name="مستطيل 5"/>
          <p:cNvSpPr/>
          <p:nvPr/>
        </p:nvSpPr>
        <p:spPr>
          <a:xfrm>
            <a:off x="0" y="457200"/>
            <a:ext cx="91440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1f497d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stel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mbr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caly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tion dis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al sp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30" descr="f13-5_mechanisms_of_adh_c"/>
          <p:cNvPicPr/>
          <p:nvPr/>
        </p:nvPicPr>
        <p:blipFill>
          <a:blip r:embed="rId1"/>
          <a:stretch/>
        </p:blipFill>
        <p:spPr>
          <a:xfrm>
            <a:off x="841320" y="1600200"/>
            <a:ext cx="3498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28" descr="f13-3_an_overview_of_th_c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4890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Koch’s postula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way to determine if a particular organism causes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be is present in all affecte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 is isolated from a sick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organism is introduced into new hos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get sick, too- and same organis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olated from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organism can be grown in pure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8181-E3C0-40CC-80BA-70439830153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1E50-0C5B-4949-B020-FEC23DBCAF6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isease </a:t>
            </a:r>
            <a:r>
              <a:rPr b="0" lang="en-US" sz="3500" spc="-1" strike="noStrike">
                <a:solidFill>
                  <a:srgbClr val="ffd50e"/>
                </a:solidFill>
                <a:latin typeface="Calibri"/>
              </a:rPr>
              <a:t>Etiology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: Koch’s Postulat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f13-17_kochs_postulates_c"/>
          <p:cNvPicPr/>
          <p:nvPr/>
        </p:nvPicPr>
        <p:blipFill>
          <a:blip r:embed="rId1"/>
          <a:stretch/>
        </p:blipFill>
        <p:spPr>
          <a:xfrm>
            <a:off x="228600" y="996840"/>
            <a:ext cx="86868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s to Koch’s Postu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acteria and viruses cannot be cultivated in pur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athologies are caused by several organisms: nephritis, pneumonia, meningitis, perito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itis” =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isms cause several diseases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phylococcus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75A4-AA73-473E-BE5E-E7D95B6F7CB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1CC-76A0-4252-8613-A9FA151D9AB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Molecular postu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Virulence FACTORS can be identifie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Virulence factor is only in pathogenic strain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f factor is mutated organism becomes les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virulent; when transferred to a non-pathogenic organism, the organism becomes pathogenic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mmune response to pathogenic factor should be protectiv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27CD-7465-4EED-95D3-FB307CA21ED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D7D1-1262-47A5-8626-A846C503F17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Mechanisms of pathogenic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xin production (endotoxin or exotoxi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xins can be produced in body or inge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lonization (usually GI or respiratory trac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asion of tissues (avoids immune system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 some combina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0F00-70C9-4E73-AB69-42DB2BB2928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4E0-E23E-4E87-A252-E3AB763F4F8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How do bacteria establish infections</a:t>
            </a: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esion (adherence) is often a necessary first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esins bind to specific molecules on cell surface- contributes to tissue specif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e.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urinary trac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iss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reproductive t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AC4-B24F-429B-B7FE-1C3561E6A91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430-FE09-48CE-8B22-5A799D7586B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zation- requires ability to obtain food and evade immun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genic variation, IgA prot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roph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ion of substances that enable them to permeate h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380B-7A75-4C63-8ABA-824F0F8E141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C46-22E9-49D0-8743-E3396682AFF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microbes invade bod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n- through lesions or vectors (bi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bacteria have developed ways to get through innate immune barriers or by crossing epithelia (cells specialized for engulfment and/or transp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acteria hide inside h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.g.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st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363B-8BD9-403D-AC1E-12ABA78DC88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2BA-AA17-4678-8530-15CD2639BDF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92B9-4447-467E-97E3-A76F93F4C2F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8A7-C52D-43F3-86CE-9145287379B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4200" y="1165320"/>
            <a:ext cx="88884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(PATH 111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redit Hours: 5 (2+2+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immun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m-positive organisms are not sensitive to complement-mediated 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Gram-negatives use complement receptors or special glycos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phagocytosis, capsules; complement inac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. streptococci, staphyloco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627-0519-442B-8FBD-BE6F455D900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F5A1-7D06-4AC9-A9C7-026FB79A211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ing phagocy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steria, Shigel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t out of phag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lmonel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revent fusion with lys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A prot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genic variation; mimicking host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reptococci good at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C0E5-78D9-4B86-9998-9F6D6B0374D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5AB9-AE95-4BC1-A8F5-3CE1A6B8D5D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How do toxins damage host</a:t>
            </a: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urotoxins- interfere with transmission of nervous sig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. botulinu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prevents release of acetylcholine (flacci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. tetani - blocks inhibitory neurons spast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0891-EAD4-44DE-8F45-40291BD1275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4DB-688A-4A4E-8A85-A7A8439E676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erotoxins- oversecretion of fluids i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stine-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E. coli; V. cholera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ytotox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B. anthracis, B. pertussi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oversecre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. diphtheriae, E. coli O157:H7, S.dysenteriae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hibit protein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4539-BB5E-4AE7-81A7-F983C000136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FEA4-8137-4009-84A0-5F2C5336373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rane-damaging toxins have different structure, directly attacking cel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hemolytic bacteria (can lyse other membranes beside RBC membr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0FB-20BC-4C81-9783-ABE7661480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1655-16FC-4D07-8887-E7D202C3D11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3045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antigens break the rules of antigen specif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that T cells recognize antigen “presented” to them by MHC Class II on AP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antigens bind differently; can activate may different T cells simultane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 stimulation can cause nausea, vomiting and sometimes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xin is well characte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9DE0-C687-4A4F-922B-FB3FB81BF56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20C1-340B-421C-A8E5-B68BD4DEC55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0492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exotoxins are not heat-stable (excep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 aur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peranti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exotoxins have been isolated and are used (as toxoids) for vacc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toxin is actually component of Gram-negatives (LPS), so cannot be iso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 is due to inflammatory response to it can be f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mul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oebocyte assay is used to test for endotox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7BA-C1F7-4493-A6D7-BFF856DAA85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645-7D54-4425-B36D-8C5FB076455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90720"/>
            <a:ext cx="8991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 immune response itself can contribute to dise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immune disease (cross-reactive antibo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une complex disease (type III hypersensi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A5FC-EA26-477F-866E-3CE6B5E6F99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856-EDAB-4E0C-84AE-12429936225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670040" y="1603440"/>
            <a:ext cx="7254720" cy="2262240"/>
          </a:xfrm>
          <a:prstGeom prst="rect">
            <a:avLst/>
          </a:prstGeom>
          <a:ln w="0">
            <a:noFill/>
          </a:ln>
        </p:spPr>
      </p:pic>
      <p:pic>
        <p:nvPicPr>
          <p:cNvPr id="217" name="Subtitle 2" descr=""/>
          <p:cNvPicPr/>
          <p:nvPr/>
        </p:nvPicPr>
        <p:blipFill>
          <a:blip r:embed="rId2"/>
          <a:stretch/>
        </p:blipFill>
        <p:spPr>
          <a:xfrm>
            <a:off x="-334800" y="3535200"/>
            <a:ext cx="8418240" cy="2725920"/>
          </a:xfrm>
          <a:prstGeom prst="rect">
            <a:avLst/>
          </a:prstGeom>
          <a:ln w="0">
            <a:noFill/>
          </a:ln>
        </p:spPr>
      </p:pic>
      <p:sp>
        <p:nvSpPr>
          <p:cNvPr id="21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3EA-52EB-4D7F-955A-02206D5CA94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3741-7345-45DB-89BE-DDFF87AD9F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f6228"/>
                </a:solidFill>
                <a:latin typeface="Arial Black"/>
              </a:rPr>
              <a:t>Bacteria - host interaction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A935-55D6-4990-B356-2C3E93C851B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F460-2CF0-4606-935B-F29708B6DD6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how does an organism cause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the pathogenesis of infectious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Koch’s postu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the exceptions to Koch’s postu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the mechanisms of pathoge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do microbes invad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how do toxins damage ho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253A-0D1D-460A-AD10-27BE75CEE60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B36-A8ED-4CE7-B386-A517184B5AC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Host-microbe interac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y do some organisms cause disease while others do no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thogens caus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evade immun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cause tissue dam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ther organisms harmlessly colonize the bod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5C4F-9A54-4AF5-832A-15329C0A2C2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357-70C2-4541-84E0-6B9F0583447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n and mucosa are barriers, but also host normal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- benefit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vitamin B- and K-producing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generally protective role of normal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sal- one partner benefits; the other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site- one benefits, the other is ha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 usually reserved for protozoa and helmi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A30C-BBEC-45B6-AF43-B6AA93A06C4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F4F7-607C-45E1-9A13-14433D36F85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f6228"/>
                </a:solidFill>
                <a:latin typeface="Calibri"/>
              </a:rPr>
              <a:t>Pathogenesis of infectious disea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an organism cause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mpairment of fun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urse of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disease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the organism shown to be pathogeni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always pathogenic (primary pathogen)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s susceptible people (opportunist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virulent is the infectious organ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B51C-7F53-4C3A-B847-5816B550FEC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9AF-AB09-4A5A-A7F0-593E8AFC882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agious (communicable) diseases are easily sp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imes the infectious dose is very low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therefore easier to sprea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ectious dose can be calcul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2C0D-4A02-4FF9-A763-C7B43AC887D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8A40-DAD4-413A-9733-DC4BD9EDF5F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ls of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strointestinal Tr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pi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rogeni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a Placen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arenter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njection, b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806-A0C5-4BE5-8360-5E6088B97B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Adnan 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95F4-140F-4ADC-A612-0E5416893B3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m</cp:lastModifiedBy>
  <dcterms:modified xsi:type="dcterms:W3CDTF">2013-12-15T17:00:52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