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68DD-CA24-4852-8750-1B79FFC6B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DABB-74E7-4DB6-95FD-BEEA3885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E7AA-55B9-49DD-8A22-C76912A7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9DCE-2381-48F1-A55E-077D01D8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644E-F291-4198-8ECA-B904F3470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8915-F351-4395-8AC6-93ACE2F7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5E8B-BFC6-4EC1-855A-D1E9B2E5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463C-38E3-458F-BBD0-EA3FB940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D4EB-8C3E-4D42-B4D9-790285CB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CCDE-E0EA-4722-82A3-25E173CD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66D1-1062-42E0-BD42-1C350C09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689A-6055-4D72-9565-EB9CF530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887B-ED2B-492A-B223-6E113CF6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4435-9737-4A54-9BF3-AADDAE70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081C-7FBF-4E00-9477-4A8673F7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3907-CF9D-4F12-8263-9AF9B20C0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24B7-A278-4AB4-BFD6-7C5BC7FA9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DE27-D22D-4228-8C92-A51354C4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CCD4-795C-4F62-8410-D68F509F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2DEE-9A61-48A6-837B-DB33C087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67F3-8A71-4321-8C28-3930B077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6024-FB65-45CE-849C-E4556ED6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4200-2A8A-4B1D-8EA5-ACC4E3BF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61DE-A129-4A45-80C1-CBC4E782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9CA5-5EDB-4095-ADB3-83B7F53D3E3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0B14-C3EF-4FD1-8940-630A676DE1B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2514600"/>
            <a:ext cx="8229600" cy="117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 u="sng">
                <a:solidFill>
                  <a:srgbClr val="990000"/>
                </a:solidFill>
                <a:uFillTx/>
                <a:latin typeface="Arial"/>
              </a:rPr>
              <a:t>Perineum</a:t>
            </a:r>
            <a:br>
              <a:rPr sz="13800"/>
            </a:b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(Page 104)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0000"/>
                </a:solidFill>
                <a:uFillTx/>
                <a:latin typeface="Arial"/>
              </a:rPr>
              <a:t>Internal Pudendal Artery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er6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6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92d050"/>
                </a:solidFill>
                <a:uFillTx/>
                <a:latin typeface="Arial"/>
              </a:rPr>
              <a:t>Pudendal Nerve</a:t>
            </a:r>
            <a:br>
              <a:rPr sz="8000"/>
            </a:b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(Page 117)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per6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6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 u="sng">
                <a:solidFill>
                  <a:srgbClr val="ff0000"/>
                </a:solidFill>
                <a:uFillTx/>
                <a:latin typeface="Arial"/>
              </a:rPr>
              <a:t>Deep Perineal Pouch</a:t>
            </a:r>
            <a:br>
              <a:rPr sz="8800"/>
            </a:b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(Page 124)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an4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per6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6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per7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 u="sng">
                <a:solidFill>
                  <a:srgbClr val="ff0000"/>
                </a:solidFill>
                <a:uFillTx/>
                <a:latin typeface="Arial"/>
              </a:rPr>
              <a:t>Superficial Perneal Pouch</a:t>
            </a:r>
            <a:br>
              <a:rPr sz="8800"/>
            </a:b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(Page 127)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per8"/>
          <p:cNvPicPr/>
          <p:nvPr/>
        </p:nvPicPr>
        <p:blipFill>
          <a:blip r:embed="rId1"/>
          <a:stretch/>
        </p:blipFill>
        <p:spPr>
          <a:xfrm>
            <a:off x="0" y="9360"/>
            <a:ext cx="9144000" cy="66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6" descr="an4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per9"/>
          <p:cNvPicPr/>
          <p:nvPr/>
        </p:nvPicPr>
        <p:blipFill>
          <a:blip r:embed="rId1"/>
          <a:stretch/>
        </p:blipFill>
        <p:spPr>
          <a:xfrm>
            <a:off x="0" y="87480"/>
            <a:ext cx="9144000" cy="65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per10"/>
          <p:cNvPicPr/>
          <p:nvPr/>
        </p:nvPicPr>
        <p:blipFill>
          <a:blip r:embed="rId1"/>
          <a:stretch/>
        </p:blipFill>
        <p:spPr>
          <a:xfrm>
            <a:off x="380880" y="-3240"/>
            <a:ext cx="861084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per1"/>
          <p:cNvPicPr/>
          <p:nvPr/>
        </p:nvPicPr>
        <p:blipFill>
          <a:blip r:embed="rId1"/>
          <a:stretch/>
        </p:blipFill>
        <p:spPr>
          <a:xfrm>
            <a:off x="0" y="477720"/>
            <a:ext cx="9144000" cy="5694480"/>
          </a:xfrm>
          <a:prstGeom prst="rect">
            <a:avLst/>
          </a:prstGeom>
          <a:ln w="0">
            <a:noFill/>
          </a:ln>
        </p:spPr>
      </p:pic>
      <p:sp>
        <p:nvSpPr>
          <p:cNvPr id="159" name="Straight Connector 2"/>
          <p:cNvSpPr/>
          <p:nvPr/>
        </p:nvSpPr>
        <p:spPr>
          <a:xfrm flipH="1">
            <a:off x="2819160" y="2971800"/>
            <a:ext cx="3733560" cy="0"/>
          </a:xfrm>
          <a:prstGeom prst="line">
            <a:avLst/>
          </a:prstGeom>
          <a:ln w="38160">
            <a:solidFill>
              <a:srgbClr val="003b7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514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0000"/>
                </a:solidFill>
                <a:uFillTx/>
                <a:latin typeface="Arial"/>
              </a:rPr>
              <a:t>Ischio-rectal Fossa</a:t>
            </a:r>
            <a:br>
              <a:rPr sz="6600"/>
            </a:b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(Page 112)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an5"/>
          <p:cNvPicPr/>
          <p:nvPr/>
        </p:nvPicPr>
        <p:blipFill>
          <a:blip r:embed="rId1"/>
          <a:stretch/>
        </p:blipFill>
        <p:spPr>
          <a:xfrm>
            <a:off x="914400" y="22320"/>
            <a:ext cx="746748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pel10"/>
          <p:cNvPicPr/>
          <p:nvPr/>
        </p:nvPicPr>
        <p:blipFill>
          <a:blip r:embed="rId1"/>
          <a:stretch/>
        </p:blipFill>
        <p:spPr>
          <a:xfrm>
            <a:off x="152280" y="74520"/>
            <a:ext cx="8991720" cy="67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an4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3623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 u="sng">
                <a:solidFill>
                  <a:srgbClr val="ff0000"/>
                </a:solidFill>
                <a:uFillTx/>
                <a:latin typeface="Arial"/>
              </a:rPr>
              <a:t>Pudendal Canal</a:t>
            </a:r>
            <a:br>
              <a:rPr sz="8000"/>
            </a:b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(Page 115)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an5"/>
          <p:cNvPicPr/>
          <p:nvPr/>
        </p:nvPicPr>
        <p:blipFill>
          <a:blip r:embed="rId1"/>
          <a:stretch/>
        </p:blipFill>
        <p:spPr>
          <a:xfrm>
            <a:off x="914400" y="22320"/>
            <a:ext cx="746748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21:57:24Z</dcterms:created>
  <dc:creator>Dr. Sherif Fahmy</dc:creator>
  <dc:description/>
  <dc:language>en-US</dc:language>
  <cp:lastModifiedBy>Dr.Sherif Fahmy</cp:lastModifiedBy>
  <dcterms:modified xsi:type="dcterms:W3CDTF">2011-05-10T22:03:45Z</dcterms:modified>
  <cp:revision>10</cp:revision>
  <dc:subject/>
  <dc:title>Perineum</dc:title>
</cp:coreProperties>
</file>