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754-6FB2-4CEA-AAD6-AFB21CC4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BE6-A3D7-461A-8D4A-85DBCD6C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7A0-52F5-4C91-A83B-A94EF799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CDD-A9BA-4B10-B433-105764C3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FE2-C378-4EE9-9213-C45E2902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467A-D5E9-4659-A03C-B63E5EE0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60D4-0E08-4619-8C58-CEB62D7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D4D8-1D0D-4AA4-B9B9-32C543D6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F5A8-6774-4B2B-A4CA-A825944F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DCEB-E623-4FBA-9C2A-FB5D3043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D7D6-98DA-456A-AF4E-42FB748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7A9-005B-40D8-A24B-AD1E34B1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BBDA-A549-4629-B313-5405146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94D-B93D-44A2-85C4-B472E8F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8815-D7B6-48F8-856D-2A6325CF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D927-9B19-4385-94E8-B4CFFBA3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66A8-7DAA-481B-A5FF-2673C112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9E5-359E-4954-9545-D8880716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76E-CE20-415F-8EFB-66AA63F2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EDD-5BE3-4784-951D-B903DFAE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44A-A353-4B46-8E9E-A4FD727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93B-6A8D-452E-9FB1-D28B461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C63-A1A4-4742-B220-776F970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200-9C23-4473-9C72-CDABA53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3A69-BB71-4852-880B-AEF12C6742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BD1E-A284-4AE3-B4D2-7E1033D919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 u="sng">
                <a:solidFill>
                  <a:srgbClr val="990000"/>
                </a:solidFill>
                <a:uFillTx/>
                <a:latin typeface="Arial"/>
              </a:rPr>
              <a:t>Perineum</a:t>
            </a:r>
            <a:br>
              <a:rPr sz="13800"/>
            </a:b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(Page 104)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Internal Pudendal Artery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er6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92d050"/>
                </a:solidFill>
                <a:uFillTx/>
                <a:latin typeface="Arial"/>
              </a:rPr>
              <a:t>Pudendal Nerve</a:t>
            </a:r>
            <a:br>
              <a:rPr sz="8000"/>
            </a:b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(Page 117)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er6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Deep Perineal Pouch</a:t>
            </a:r>
            <a:br>
              <a:rPr sz="88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(Page 124)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4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er6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per7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Superficial Perneal Pouch</a:t>
            </a:r>
            <a:br>
              <a:rPr sz="88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(Page 127)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per8"/>
          <p:cNvPicPr/>
          <p:nvPr/>
        </p:nvPicPr>
        <p:blipFill>
          <a:blip r:embed="rId1"/>
          <a:stretch/>
        </p:blipFill>
        <p:spPr>
          <a:xfrm>
            <a:off x="0" y="9360"/>
            <a:ext cx="91440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an4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per9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per10"/>
          <p:cNvPicPr/>
          <p:nvPr/>
        </p:nvPicPr>
        <p:blipFill>
          <a:blip r:embed="rId1"/>
          <a:stretch/>
        </p:blipFill>
        <p:spPr>
          <a:xfrm>
            <a:off x="380880" y="-3240"/>
            <a:ext cx="86108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per1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2"/>
          <p:cNvSpPr/>
          <p:nvPr/>
        </p:nvSpPr>
        <p:spPr>
          <a:xfrm flipH="1">
            <a:off x="2819160" y="2971800"/>
            <a:ext cx="3733560" cy="0"/>
          </a:xfrm>
          <a:prstGeom prst="line">
            <a:avLst/>
          </a:prstGeom>
          <a:ln w="38160">
            <a:solidFill>
              <a:srgbClr val="003b7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Ischio-rectal Fossa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(Page 112)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an5"/>
          <p:cNvPicPr/>
          <p:nvPr/>
        </p:nvPicPr>
        <p:blipFill>
          <a:blip r:embed="rId1"/>
          <a:stretch/>
        </p:blipFill>
        <p:spPr>
          <a:xfrm>
            <a:off x="914400" y="22320"/>
            <a:ext cx="74674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pel10"/>
          <p:cNvPicPr/>
          <p:nvPr/>
        </p:nvPicPr>
        <p:blipFill>
          <a:blip r:embed="rId1"/>
          <a:stretch/>
        </p:blipFill>
        <p:spPr>
          <a:xfrm>
            <a:off x="152280" y="74520"/>
            <a:ext cx="899172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an4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Pudendal Canal</a:t>
            </a:r>
            <a:br>
              <a:rPr sz="8000"/>
            </a:b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(Page 115)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an5"/>
          <p:cNvPicPr/>
          <p:nvPr/>
        </p:nvPicPr>
        <p:blipFill>
          <a:blip r:embed="rId1"/>
          <a:stretch/>
        </p:blipFill>
        <p:spPr>
          <a:xfrm>
            <a:off x="914400" y="22320"/>
            <a:ext cx="74674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21:57:24Z</dcterms:created>
  <dc:creator>Dr. Sherif Fahmy</dc:creator>
  <dc:description/>
  <dc:language>en-US</dc:language>
  <cp:lastModifiedBy>Dr.Sherif Fahmy</cp:lastModifiedBy>
  <dcterms:modified xsi:type="dcterms:W3CDTF">2011-05-10T22:03:45Z</dcterms:modified>
  <cp:revision>10</cp:revision>
  <dc:subject/>
  <dc:title>Perineum</dc:title>
</cp:coreProperties>
</file>