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7FE-0D7D-43DC-9B4E-E94FC59A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7F9-351C-4B00-B990-2C44B871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329-8A6B-4C2A-99EA-B68C52E3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624-1828-4E14-8EAF-AB5591C2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9CB-368F-4575-9302-A9D09930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261-3989-4202-BCFF-2998B4EC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189-8953-49B5-9C6E-92A57BD2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2AB-5A4F-4338-A989-ADEE794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A0D-1985-40C5-8617-76001EEB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F4B-3960-4832-B9E1-CBCBB194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1EF-210F-4774-9597-FFD4E2A8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3DE-A1E5-488D-8ACD-6D35680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DAD3-EAB4-4D50-A87D-E6DADC35DE2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3560"/>
            <a:ext cx="9144000" cy="532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8080"/>
            <a:ext cx="9144000" cy="644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5840"/>
            <a:ext cx="9144000" cy="628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Smets</cp:lastModifiedBy>
  <dcterms:modified xsi:type="dcterms:W3CDTF">2008-08-28T19:07:24Z</dcterms:modified>
  <cp:revision>3</cp:revision>
  <dc:subject/>
  <dc:title>Slajd 1</dc:title>
</cp:coreProperties>
</file>