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6DD-ED22-425C-A371-66DAE681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7EF-2176-4C2B-9047-388A6BD7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935-566C-4155-A63A-7C0C4130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CE7-5E93-4F84-B23F-7DDCB55A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367-6DB6-4301-81C3-82BA9C7C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B62-A52F-4D87-B04F-5BF60B94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0F0-F662-4C70-AD52-D0C94687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12C-827D-4552-9072-0EF2AC7A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8B9-9311-48B3-85DF-1C69ACD2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248-A59A-440C-BE61-401BA84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8B2-F867-4218-9EAB-D5B59A2A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848-832F-40F0-89E1-48E4B108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839C-4E00-4DC7-8FF8-8AC9A3A628B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mbers.lycos.nl/hatzizervoudakis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og_008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ligraph421 BT"/>
              </a:rPr>
              <a:t>een vri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og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Deze echte kanjer van een v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embers.lycos.nl/hatzizervoudak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Voor meer power points en gedicht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3132000" cy="308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og_00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228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Ik heb een vriend waarmee ik kan hui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og_01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en die naar me luistert als ik verte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over mijn verdriet en pij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og_00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049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En die er altijd en overal voor mij zal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og_017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43000" y="5867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Iemand die samen met me la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og_01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Ook al is de grap nog zo klein.</a:t>
            </a:r>
            <a:r>
              <a:rPr b="0" lang="en-US" sz="2400" spc="-1" strike="noStrike">
                <a:solidFill>
                  <a:srgbClr val="0000ff"/>
                </a:solidFill>
                <a:latin typeface="Calligraph4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og_007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380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Bij zo iemand waar je helemaa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jezelf kunt zijn.</a:t>
            </a:r>
            <a:r>
              <a:rPr b="0" lang="en-US" sz="2400" spc="-1" strike="noStrike">
                <a:solidFill>
                  <a:srgbClr val="0000ff"/>
                </a:solidFill>
                <a:latin typeface="Calligraph4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og_018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80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ligraph421 BT"/>
              </a:rPr>
              <a:t>Dan denk ik wel</a:t>
            </a:r>
            <a:r>
              <a:rPr b="0" lang="nl-BE" sz="2400" spc="-1" strike="noStrike">
                <a:solidFill>
                  <a:srgbClr val="ffffff"/>
                </a:solidFill>
                <a:latin typeface="Calligraph421 BT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alligraph421 BT"/>
              </a:rPr>
              <a:t>e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og_01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14800" y="6019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waaraan heb ik het verd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2:46:58Z</dcterms:created>
  <dc:creator>Johanna Hatzizervoudakis</dc:creator>
  <dc:description/>
  <dc:language>en-US</dc:language>
  <cp:lastModifiedBy>Smets</cp:lastModifiedBy>
  <dcterms:modified xsi:type="dcterms:W3CDTF">2008-09-06T05:56:22Z</dcterms:modified>
  <cp:revision>4</cp:revision>
  <dc:subject/>
  <dc:title>PowerPoint-presentatie</dc:title>
</cp:coreProperties>
</file>