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E94-FD21-4729-8591-E1900786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5D3-2416-4810-A351-9A58A389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BCE0-F2AB-401B-BACB-007B1726B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167-9385-4A1A-BADE-38ECB9DB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13D2-1955-45BA-A5D2-3F7EDE79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971-CC2B-45C7-AD58-17293FC5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ACE1-8086-4592-9802-D5F014A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E2C-156B-42AA-9158-2159AE07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D39D-9A5F-4355-BAB7-0A0C5771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6CA-A368-46D3-BB0D-A655F9C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2985-3668-481D-9E94-CD59D4506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53C3-DD81-497E-ABC7-2B80BAD72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089F-EED6-4DE6-9E86-49488165F52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embers.lycos.nl/hatzizervoudakis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og_008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2286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ligraph421 BT"/>
              </a:rPr>
              <a:t>een vrien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og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57200" y="304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ffff"/>
                </a:solidFill>
                <a:latin typeface="Times New Roman"/>
              </a:rPr>
              <a:t>Deze echte kanjer van een v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members.lycos.nl/hatzizervoudak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609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Times New Roman"/>
              </a:rPr>
              <a:t>Voor meer power points en gedicht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3132000" cy="3086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908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og_00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09480" y="228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Ik heb een vriend waarmee ik kan huil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og_01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en die naar me luistert als ik verte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over mijn verdriet en pij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og_00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80880" y="30492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En die er altijd en overal voor mij zal zij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Dog_017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143000" y="58672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Iemand die samen met me lach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Dog_01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724280" y="457200"/>
            <a:ext cx="40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Ook al is de grap nog zo klein.</a:t>
            </a:r>
            <a:r>
              <a:rPr b="0" lang="en-US" sz="2400" spc="-1" strike="noStrike">
                <a:solidFill>
                  <a:srgbClr val="0000ff"/>
                </a:solidFill>
                <a:latin typeface="Calligraph4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Dog_007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57200" y="38088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Bij zo iemand waar je helemaal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jezelf kunt zijn.</a:t>
            </a:r>
            <a:r>
              <a:rPr b="0" lang="en-US" sz="2400" spc="-1" strike="noStrike">
                <a:solidFill>
                  <a:srgbClr val="0000ff"/>
                </a:solidFill>
                <a:latin typeface="Calligraph4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og_018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62720" y="380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alligraph421 BT"/>
              </a:rPr>
              <a:t>Dan denk ik wel</a:t>
            </a:r>
            <a:r>
              <a:rPr b="0" lang="nl-BE" sz="2400" spc="-1" strike="noStrike">
                <a:solidFill>
                  <a:srgbClr val="ffffff"/>
                </a:solidFill>
                <a:latin typeface="Calligraph421 BT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Calligraph421 BT"/>
              </a:rPr>
              <a:t>ee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Dog_017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114800" y="60199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ligraph421 BT"/>
              </a:rPr>
              <a:t>waaraan heb ik het verd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2:46:58Z</dcterms:created>
  <dc:creator>Johanna Hatzizervoudakis</dc:creator>
  <dc:description/>
  <dc:language>en-US</dc:language>
  <cp:lastModifiedBy>Smets</cp:lastModifiedBy>
  <dcterms:modified xsi:type="dcterms:W3CDTF">2008-09-06T05:56:22Z</dcterms:modified>
  <cp:revision>4</cp:revision>
  <dc:subject/>
  <dc:title>PowerPoint-presentatie</dc:title>
</cp:coreProperties>
</file>