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CB3-9F9E-4EA3-B9E8-64498074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68D-086C-4CB0-A8B5-8912A1A2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049-5F8B-4952-8FE5-3FC0A36B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3D8-E801-4B2D-B09A-233FF738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14B-E9F0-491C-8F56-CC8AF11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122-364D-40A9-9675-D1406C84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235-6D15-4687-ADE4-83D9E0BF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0B3-7D5D-4E67-9802-B8970BE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54B-B8E0-4CDA-97F9-1CA7231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C6E-D45B-43AD-93CC-5560824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AAE-200B-4A13-918D-25B6392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B44-01A7-4A84-85A1-9CEB3EA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C75E3-A805-4C90-B3B5-53F684D666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4296C-E07E-4768-B556-76B47DCB38A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6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4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5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4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4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4:36:55Z</dcterms:created>
  <dc:creator>최봉수</dc:creator>
  <dc:description/>
  <dc:language>en-US</dc:language>
  <cp:lastModifiedBy>맛있다 군만두</cp:lastModifiedBy>
  <dcterms:modified xsi:type="dcterms:W3CDTF">2024-10-01T03:02:22Z</dcterms:modified>
  <cp:revision>3</cp:revision>
  <dc:subject/>
  <dc:title>슬라이드 1</dc:title>
</cp:coreProperties>
</file>