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646-CB40-4429-BCD1-8F5190E3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223-BED7-430D-95B3-1EE0535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4E5-BEE7-4F9E-A073-2D3E2811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BA6-ED69-49CE-87C2-0CE0790A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774-A4BF-419B-AD0C-F05EE716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3FC-14DD-4DC1-9E7A-58613D9A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29A-50D4-4B8A-9A6D-12D1A10E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311-75D1-4D41-9CED-C091DDCD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ED3-7E35-42F9-B1AE-2E854983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D56-F83F-4388-AAEE-D199FCF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37C-1156-4861-8683-DF723E9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E6F-8781-498E-BAEE-E9CFB41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3FD2B-13F9-42E3-83EF-E2B26B57F8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0C550-2F6B-4448-AAA0-5E1D0A527E9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6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4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5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4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4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4:36:55Z</dcterms:created>
  <dc:creator>최봉수</dc:creator>
  <dc:description/>
  <dc:language>en-US</dc:language>
  <cp:lastModifiedBy>맛있다 군만두</cp:lastModifiedBy>
  <dcterms:modified xsi:type="dcterms:W3CDTF">2024-10-01T03:02:22Z</dcterms:modified>
  <cp:revision>3</cp:revision>
  <dc:subject/>
  <dc:title>슬라이드 1</dc:title>
</cp:coreProperties>
</file>