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CC8-4D23-402C-BE0E-908922B6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EA0-872D-41EB-8A70-3F6E0B61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362-8A7A-42BD-A5EA-E334C94A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194-F6A4-4B3A-8F1C-F64CC67E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975-3457-4D31-AAE1-38125C52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349-F82C-47FE-A170-DA4AEBF0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AC9-6138-499E-ACE4-1C76EA00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4CC-6E6F-4414-90B9-324A5285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B25-B833-40AD-A334-E8C2939E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9AA-1274-473F-BE20-23E489A9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AFA-4033-45D3-B768-3385B43C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6C4-514B-489C-B276-1B7B134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CE13-EE76-4B01-A0F4-1D8AB2D76B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66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30520" y="1225440"/>
            <a:ext cx="598644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هيا لنفرح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نتهل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920" y="2278080"/>
            <a:ext cx="770724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نعلن دوماً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جد إ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4320" y="4610160"/>
            <a:ext cx="60865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لنرفع اسم الر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82920" y="3390840"/>
            <a:ext cx="589104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نشهد و نتشج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66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63080" cy="688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7760" y="2046240"/>
            <a:ext cx="86868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ليقلِ الضعيف بطلٌ أ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52680" y="3351240"/>
            <a:ext cx="427824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الرب قوت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5148360" y="417600"/>
            <a:ext cx="3960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هيا لنفرح و لنتهل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21:38:42Z</dcterms:created>
  <dc:creator/>
  <dc:description/>
  <dc:language>en-US</dc:language>
  <cp:lastModifiedBy>ZonaNet</cp:lastModifiedBy>
  <dcterms:modified xsi:type="dcterms:W3CDTF">2008-09-17T09:54:46Z</dcterms:modified>
  <cp:revision>21</cp:revision>
  <dc:subject/>
  <dc:title>PowerPoint Presentation</dc:title>
</cp:coreProperties>
</file>