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3D4-A8D0-44C7-8824-137C41E5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8431-DD68-4265-BAA3-B84085B7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34C9-49E5-46C9-831E-42465208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05D-E5E2-4EFE-9BDB-D770889F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CE88-98E6-42F8-A211-8C3BE9E8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03A2-F0DC-4155-9E03-70B3A047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6316-2305-4E53-8FA7-94F4359A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F631-1495-4005-833B-01367F9A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21F-21B0-4C8A-A481-C52C4A37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46BC-9647-4AA0-9A3D-E4FBFEEC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DAA5-863B-4244-9C77-9B7DA2FA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51CD-039E-49BA-958C-6F62AD37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61A8-B592-4C32-AF56-BD5F7CD9D4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66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2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30520" y="1225440"/>
            <a:ext cx="598644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هيا لنفرح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نتهل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5920" y="2278080"/>
            <a:ext cx="770724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نعلن دوماً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مجد إله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54320" y="4610160"/>
            <a:ext cx="608652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لنرفع اسم الر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82920" y="3390840"/>
            <a:ext cx="589104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نشهد و نتشج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66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63080" cy="6881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7760" y="2046240"/>
            <a:ext cx="86868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ليقلِ الضعيف بطلٌ أ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52680" y="3351240"/>
            <a:ext cx="427824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فالرب قوت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5148360" y="417600"/>
            <a:ext cx="396072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ial"/>
              </a:rPr>
              <a:t>هيا لنفرح و لنتهل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2T21:38:42Z</dcterms:created>
  <dc:creator/>
  <dc:description/>
  <dc:language>en-US</dc:language>
  <cp:lastModifiedBy>ZonaNet</cp:lastModifiedBy>
  <dcterms:modified xsi:type="dcterms:W3CDTF">2008-09-17T09:54:46Z</dcterms:modified>
  <cp:revision>21</cp:revision>
  <dc:subject/>
  <dc:title>PowerPoint Presentation</dc:title>
</cp:coreProperties>
</file>