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5.jpeg" ContentType="image/jpeg"/>
  <Override PartName="/ppt/media/explode.wav" ContentType="audio/x-wav"/>
  <Override PartName="/ppt/media/image7.jpeg" ContentType="image/jpeg"/>
  <Override PartName="/ppt/media/image38.jpeg" ContentType="image/jpeg"/>
  <Override PartName="/ppt/media/image1.png" ContentType="image/png"/>
  <Override PartName="/ppt/media/image40.jpeg" ContentType="image/jpeg"/>
  <Override PartName="/ppt/media/image13.jpeg" ContentType="image/jpeg"/>
  <Override PartName="/ppt/media/image14.gif" ContentType="image/gif"/>
  <Override PartName="/ppt/media/image3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D01-A184-4149-BDF3-C7A4FCD7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5AE-570B-4319-A923-3F90005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CE7-6BD7-4182-BBA3-4F7BB64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84F-132B-4E10-9723-F2DBC9AC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3D6-E8DF-42AC-A43E-2B02ADE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4D2-D5EF-4ECF-9E4E-1628477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E0E-2074-407A-A886-EB201B3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7FD-C364-4D33-B635-0E0359B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5CE-DFEF-4CEB-AC76-AE78DBE6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32A-6567-4020-96DC-8F83870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082-1D6C-4E31-9067-745B4E5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762-2950-46EF-8E0D-5783146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A47-F664-41A4-AE39-ADBD2130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22.xml"/><Relationship Id="rId6" Type="http://schemas.openxmlformats.org/officeDocument/2006/relationships/slide" Target="slide35.xm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unny.lu/" TargetMode="External"/><Relationship Id="rId3" Type="http://schemas.openxmlformats.org/officeDocument/2006/relationships/image" Target="../media/image11.jpeg"/><Relationship Id="rId4" Type="http://schemas.openxmlformats.org/officeDocument/2006/relationships/slide" Target="slide1.xml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chlechtes 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chokkend beeld .pps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nheids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enior d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erials Ki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1. Bent u lelij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2. Bent u ka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3. Bent u di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752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4. Bent u kle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5. Is er niemand op straat die naar u kij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752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Wanhoop dan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Want er is een nieuw schoonheidsproduk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de ma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De meest dificille vrouw zal moeilijk aan 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charmes kunnen weer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676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Het is een uniek produkt, het eerste op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markt voor mannelijke schoonhe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2863800"/>
            <a:ext cx="739152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9933"/>
                </a:solidFill>
                <a:latin typeface="Comic Sans MS"/>
              </a:rPr>
              <a:t>Schlechtes Ess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676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Het is nu te koop in de betere z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0400" y="776160"/>
            <a:ext cx="7963200" cy="530568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360" y="1989000"/>
            <a:ext cx="6912000" cy="223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 e n i o r   d a t i n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50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samenstelling :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en Martha, twee “senior”- weduwen, zijn aan de pra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Die aardige Jef vroeg mij mee uit te gaan.  Ik weet dat jij vorige week met hem bent uitgewe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daarom wilde ik jou eerst eens spreken voordat ik hem mijn antwoord ge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tha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Ik zal het jou vertellen : hij kwam bij mij om precies 19 uur, super gekleed als een 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hij had prachtige bloemen bij.  Daarna nam hij me mee naar buiten waar een luxe auto stond, met chauffeur in unifo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Hij nam me mee uit eten – een fantastisch diner : champagne, kreeft, diner, dessert en nog wat lekkere hap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En toen gingen we naar een show.  Echt, Marie, het was zo goed dat ik van genot had kunnen sterve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Dan zijn we teruggegaan naar mijn appartement en daar veranderde hij in een BE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Hij scheurde mijn dure jurk zo maar van mij af en daarna nam hij me twee kee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360" y="0"/>
            <a:ext cx="475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ie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Goeie genade … je wil me dus vertellen dat ik beter niet met hem uitg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772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Martha :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Nee, nee, dat niet, </a:t>
            </a:r>
            <a:br>
              <a:rPr sz="4400"/>
            </a:br>
            <a:r>
              <a:rPr b="0" lang="nl-BE" sz="4400" spc="-1" strike="noStrike">
                <a:solidFill>
                  <a:srgbClr val="ffff00"/>
                </a:solidFill>
                <a:latin typeface="Arial"/>
              </a:rPr>
              <a:t>ik wil alleen maar zegge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86388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35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800" spc="-1" strike="noStrike">
                <a:solidFill>
                  <a:srgbClr val="ff3300"/>
                </a:solidFill>
                <a:latin typeface="Arial"/>
              </a:rPr>
              <a:t>doe een oude jurk aan !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36440" y="2205000"/>
            <a:ext cx="641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66"/>
                </a:solidFill>
                <a:latin typeface="Impact"/>
              </a:rPr>
              <a:t>SERIALS KIL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68400" y="3860640"/>
            <a:ext cx="434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66"/>
                </a:solidFill>
                <a:latin typeface="Impact"/>
              </a:rPr>
              <a:t>By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1068480"/>
            <a:ext cx="5790960" cy="472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846000"/>
            <a:ext cx="9144000" cy="77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6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6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-774720"/>
            <a:ext cx="9144000" cy="76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767736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90960" cy="472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50920" y="2276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9e18b"/>
                </a:solidFill>
                <a:latin typeface="Arial"/>
              </a:rPr>
              <a:t>Schokkend beeld 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95008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PS BY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7-12T06:11:29Z</dcterms:modified>
  <cp:revision>204</cp:revision>
  <dc:subject/>
  <dc:title>Dia 1</dc:title>
</cp:coreProperties>
</file>