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24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5.jpeg" ContentType="image/jpeg"/>
  <Override PartName="/ppt/media/explode.wav" ContentType="audio/x-wav"/>
  <Override PartName="/ppt/media/image7.jpeg" ContentType="image/jpeg"/>
  <Override PartName="/ppt/media/image38.jpeg" ContentType="image/jpeg"/>
  <Override PartName="/ppt/media/image1.png" ContentType="image/png"/>
  <Override PartName="/ppt/media/image40.jpeg" ContentType="image/jpeg"/>
  <Override PartName="/ppt/media/image13.jpeg" ContentType="image/jpeg"/>
  <Override PartName="/ppt/media/image14.gif" ContentType="image/gif"/>
  <Override PartName="/ppt/media/image3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851-536B-4983-8F25-8476D41F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EAF-6BD2-42A2-9547-915463D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4B5-461E-4700-9FBD-18D2A5F4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893-680D-4452-80D3-900E2F00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E5F-7013-4C5E-A32A-96E1A8BE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6DD-BB25-430E-AF03-188713B7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6D5-2C3F-4403-865D-A3F101BF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E00-9428-4ABC-AB4F-4AC2677E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58A-C058-420D-B2A8-4133A00B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300-B703-483E-A7CF-BE05E127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9EE-7B48-4CD0-BA6A-7B17B0B9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B81-4666-4F1D-9853-851F7A80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A0E-63AE-41AC-966C-E96ECCEA1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22.xml"/><Relationship Id="rId6" Type="http://schemas.openxmlformats.org/officeDocument/2006/relationships/slide" Target="slide35.xml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unny.lu/" TargetMode="External"/><Relationship Id="rId3" Type="http://schemas.openxmlformats.org/officeDocument/2006/relationships/image" Target="../media/image11.jpeg"/><Relationship Id="rId4" Type="http://schemas.openxmlformats.org/officeDocument/2006/relationships/slide" Target="slide1.xml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" Target="slide1.xml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S grapje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chlechtes 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chokkend beeld .pps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onheids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enior d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Serials Ki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1752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1. Bent u lelij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752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2. Bent u kaa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752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3. Bent u di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752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4. Bent u kle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5. Is er niemand op straat die naar u kijk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7524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Wanhoop dan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676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Want er is een nieuw schoonheidsproduk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de ma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676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De meest dificille vrouw zal moeilijk aan 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charmes kunnen weer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676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Het is een uniek produkt, het eerste op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markt voor mannelijke schoonhe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2863800"/>
            <a:ext cx="7391520" cy="109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9933"/>
                </a:solidFill>
                <a:latin typeface="Comic Sans MS"/>
              </a:rPr>
              <a:t>Schlechtes Ess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676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Het is nu te koop in de betere z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0400" y="776160"/>
            <a:ext cx="7963200" cy="530568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4360" y="1989000"/>
            <a:ext cx="6912000" cy="223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 e n i o r   d a t i n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4508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</a:rPr>
              <a:t>samenstelling :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7280" y="0"/>
            <a:ext cx="4897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ie en Martha, twee “senior”- weduwen, zijn aan de pra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ie :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Die aardige Jef vroeg mij mee uit te gaan.  Ik weet dat jij vorige week met hem bent uitgewe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en daarom wilde ik jou eerst eens spreken voordat ik hem mijn antwoord ge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tha :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Ik zal het jou vertellen : hij kwam bij mij om precies 19 uur, super gekleed als een 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7280" y="0"/>
            <a:ext cx="4897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en hij had prachtige bloemen bij.  Daarna nam hij me mee naar buiten waar een luxe auto stond, met chauffeur in unifo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Hij nam me mee uit eten – een fantastisch diner : champagne, kreeft, diner, dessert en nog wat lekkere hapj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En toen gingen we naar een show.  Echt, Marie, het was zo goed dat ik van genot had kunnen sterve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Dan zijn we teruggegaan naar mijn appartement en daar veranderde hij in een BE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Hij scheurde mijn dure jurk zo maar van mij af en daarna nam hij me twee kee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40360" y="0"/>
            <a:ext cx="475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ie :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Goeie genade … je wil me dus vertellen dat ik beter niet met hem uitg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tha :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Nee, nee, dat niet, 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ik wil alleen maar zegge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863880" cy="566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35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800" spc="-1" strike="noStrike">
                <a:solidFill>
                  <a:srgbClr val="ff3300"/>
                </a:solidFill>
                <a:latin typeface="Arial"/>
              </a:rPr>
              <a:t>doe een oude jurk aan !</a:t>
            </a: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36440" y="2205000"/>
            <a:ext cx="641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ff0066"/>
                </a:solidFill>
                <a:latin typeface="Impact"/>
              </a:rPr>
              <a:t>SERIALS KIL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68400" y="3860640"/>
            <a:ext cx="434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ff0066"/>
                </a:solidFill>
                <a:latin typeface="Impact"/>
              </a:rPr>
              <a:t>By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5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6520" y="1068480"/>
            <a:ext cx="5790960" cy="472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-846000"/>
            <a:ext cx="9144000" cy="77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-747720"/>
            <a:ext cx="9144000" cy="76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-747720"/>
            <a:ext cx="9144000" cy="76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6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-774720"/>
            <a:ext cx="9144000" cy="76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767736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250920" y="2276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f9e18b"/>
                </a:solidFill>
                <a:latin typeface="Arial"/>
              </a:rPr>
              <a:t>Schokkend beeld 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950080"/>
            <a:ext cx="25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PS BY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7-12T06:11:29Z</dcterms:modified>
  <cp:revision>204</cp:revision>
  <dc:subject/>
  <dc:title>Dia 1</dc:title>
</cp:coreProperties>
</file>