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mus6AntOReiAPw.wav" ContentType="audio/x-wav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4A7-6933-4278-9095-83D5D254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E3A-48D9-4FED-9825-E25CFEA6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324-9C44-4411-B464-1CE3C382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D7B-475C-4735-8F64-1E1F099C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8FC-827D-49ED-9B25-48C4A276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419-610E-4D60-9DE6-8F87D6F2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9A6-B3F6-46A2-ABEF-8396993F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9B3-218A-4EAC-B169-2DFA8CCC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06F-F413-4839-93E2-4EC5F098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D82-F083-4350-9946-B0EC24F1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C25-A7F9-42E4-A39E-DC41CCE1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3C1-2AD9-4699-9F5D-CE149576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FCC2-81B8-4D04-AA8D-B097A3451D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us6AntOReiAP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onestirsantbenetmontserrat.cat/regina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resized_05=VERSIÓ1pp.jpg"/>
          <p:cNvPicPr/>
          <p:nvPr/>
        </p:nvPicPr>
        <p:blipFill>
          <a:blip r:embed="rId1"/>
          <a:stretch/>
        </p:blipFill>
        <p:spPr>
          <a:xfrm>
            <a:off x="0" y="0"/>
            <a:ext cx="464328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0"/>
          <p:cNvSpPr/>
          <p:nvPr/>
        </p:nvSpPr>
        <p:spPr>
          <a:xfrm>
            <a:off x="4932360" y="2773440"/>
            <a:ext cx="4032360" cy="2226960"/>
          </a:xfrm>
          <a:prstGeom prst="rect">
            <a:avLst/>
          </a:prstGeom>
          <a:solidFill>
            <a:srgbClr val="c3872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uchando la antífona de “Jesús Rey” de Arvo Pärt, entremos en el Miste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8 Rectángulo"/>
          <p:cNvSpPr/>
          <p:nvPr/>
        </p:nvSpPr>
        <p:spPr>
          <a:xfrm>
            <a:off x="4643280" y="1285920"/>
            <a:ext cx="4500720" cy="13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2"/>
          <p:cNvSpPr/>
          <p:nvPr/>
        </p:nvSpPr>
        <p:spPr>
          <a:xfrm>
            <a:off x="4678200" y="214200"/>
            <a:ext cx="4465800" cy="703440"/>
          </a:xfrm>
          <a:prstGeom prst="rect">
            <a:avLst/>
          </a:prstGeom>
          <a:solidFill>
            <a:srgbClr val="f3e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986924"/>
                </a:solidFill>
                <a:latin typeface="Arial Unicode MS"/>
              </a:rPr>
              <a:t>2 CUARESMA c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0" y="4667400"/>
            <a:ext cx="100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87"/>
          <p:cNvSpPr txBox="1"/>
          <p:nvPr/>
        </p:nvSpPr>
        <p:spPr>
          <a:xfrm>
            <a:off x="4788000" y="1278000"/>
            <a:ext cx="417672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2230c"/>
                    </a:gs>
                    <a:gs pos="100000">
                      <a:srgbClr val="ba812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2230c"/>
                  </a:gs>
                  <a:gs pos="100000">
                    <a:srgbClr val="ba812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  <p:sndAc>
      <p:stSnd>
        <p:snd r:embed="rId2" name="mus6AntOReiAP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 Imagen" descr="Mount20TaborTw.jpg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443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7000920" y="0"/>
            <a:ext cx="2143080" cy="329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Pero nadie puede acaparar este AMOR eter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000080" y="0"/>
            <a:ext cx="5929200" cy="146448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EL AMOR quisiera detener muchos momentos de cada día...</a:t>
            </a:r>
            <a:r>
              <a:rPr b="1" lang="ca-ES" sz="3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ca-ES" sz="2200" spc="-1" strike="noStrike">
                <a:solidFill>
                  <a:srgbClr val="ffffff"/>
                </a:solidFill>
                <a:latin typeface="Arial Unicode MS"/>
              </a:rPr>
              <a:t>(Canto espiritual. Joan Maraga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0" y="4373640"/>
            <a:ext cx="2428920" cy="109944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Iglesia en forma de 3 cho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68360" y="403200"/>
            <a:ext cx="8248680" cy="436032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davía estaba hablando cuando una nube luminosa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s cubrió con su sombra,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una voz desde la nube decía: «Éste es mi Hijo, el amado,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i predilecto.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cuchadlo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2"/>
          <p:cNvSpPr/>
          <p:nvPr/>
        </p:nvSpPr>
        <p:spPr>
          <a:xfrm>
            <a:off x="0" y="-50760"/>
            <a:ext cx="9144000" cy="519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4 Imagen" descr="fixedwww.jpg"/>
          <p:cNvPicPr/>
          <p:nvPr/>
        </p:nvPicPr>
        <p:blipFill>
          <a:blip r:embed="rId1"/>
          <a:stretch/>
        </p:blipFill>
        <p:spPr>
          <a:xfrm>
            <a:off x="1951200" y="0"/>
            <a:ext cx="7192800" cy="5143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2286000"/>
            <a:ext cx="2214720" cy="28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Lo vivimos cuando penetramos en el Misterio del Am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8001000" y="0"/>
            <a:ext cx="1143000" cy="42912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Arial Unicode MS"/>
              </a:rPr>
              <a:t>Crip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-71280"/>
            <a:ext cx="2214720" cy="2378160"/>
          </a:xfrm>
          <a:prstGeom prst="rect">
            <a:avLst/>
          </a:prstGeom>
          <a:gradFill rotWithShape="0">
            <a:gsLst>
              <a:gs pos="0">
                <a:srgbClr val="ba812c"/>
              </a:gs>
              <a:gs pos="100000">
                <a:srgbClr val="3223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Jesús y nosotros, somos los Hijos AM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85840" y="720720"/>
            <a:ext cx="8535960" cy="3751560"/>
          </a:xfrm>
          <a:prstGeom prst="rect">
            <a:avLst/>
          </a:prstGeom>
          <a:solidFill>
            <a:srgbClr val="0000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oírlo, 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s discípulos 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yeron de bruces, llenos de espant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1 Imagen" descr=""/>
          <p:cNvPicPr/>
          <p:nvPr/>
        </p:nvPicPr>
        <p:blipFill>
          <a:blip r:embed="rId1"/>
          <a:stretch/>
        </p:blipFill>
        <p:spPr>
          <a:xfrm>
            <a:off x="2857680" y="-23760"/>
            <a:ext cx="6227640" cy="5143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4920" y="34920"/>
            <a:ext cx="2786040" cy="1373760"/>
          </a:xfrm>
          <a:prstGeom prst="rect">
            <a:avLst/>
          </a:prstGeom>
          <a:gradFill rotWithShape="0">
            <a:gsLst>
              <a:gs pos="0">
                <a:srgbClr val="ba812c"/>
              </a:gs>
              <a:gs pos="100000">
                <a:srgbClr val="3223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osternémo-nos y adore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14200" y="1378080"/>
            <a:ext cx="2428920" cy="42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Por grande 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que sea el Presente de un Dios que nos hace hijos, todos podemos entr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957240" y="352440"/>
            <a:ext cx="7286760" cy="521208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se acercó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, tocándolos, les dijo: «Levantaos, no temáis». Al alzar los ojos,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 vieron a nadie más que a Jesús, so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7 Imagen" descr="333w.jpg"/>
          <p:cNvPicPr/>
          <p:nvPr/>
        </p:nvPicPr>
        <p:blipFill>
          <a:blip r:embed="rId1"/>
          <a:stretch/>
        </p:blipFill>
        <p:spPr>
          <a:xfrm>
            <a:off x="1928880" y="0"/>
            <a:ext cx="713592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1280" y="1747800"/>
            <a:ext cx="2143440" cy="42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Jesús, sólo, compar-tiendo con nosotros 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la fratern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71280" y="106200"/>
            <a:ext cx="2571840" cy="155628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esús, sólo, presente en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9 Rectángulo"/>
          <p:cNvSpPr/>
          <p:nvPr/>
        </p:nvSpPr>
        <p:spPr>
          <a:xfrm>
            <a:off x="4286160" y="2714760"/>
            <a:ext cx="2143080" cy="71280"/>
          </a:xfrm>
          <a:prstGeom prst="rect">
            <a:avLst/>
          </a:prstGeom>
          <a:solidFill>
            <a:srgbClr val="e9c52b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10 Rectángulo"/>
          <p:cNvSpPr/>
          <p:nvPr/>
        </p:nvSpPr>
        <p:spPr>
          <a:xfrm rot="16200000">
            <a:off x="4000320" y="3000240"/>
            <a:ext cx="2643120" cy="71640"/>
          </a:xfrm>
          <a:prstGeom prst="rect">
            <a:avLst/>
          </a:prstGeom>
          <a:solidFill>
            <a:srgbClr val="e9c52b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857760" y="4713120"/>
            <a:ext cx="5214960" cy="7642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Cripta (Pavos símbolo de Resurrección</a:t>
            </a:r>
            <a:r>
              <a:rPr b="1" lang="ca-ES" sz="2200" spc="-1" strike="noStrike">
                <a:solidFill>
                  <a:srgbClr val="ffffff"/>
                </a:solidFill>
                <a:latin typeface="Arial Unicode MS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85840" y="817560"/>
            <a:ext cx="8609040" cy="420876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bajaban de la montaña, Jesús les mandó: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No contéis a nadie la visión hasta que el Hijo del hombre resucite de entre los muertos»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1 Imagen" descr=""/>
          <p:cNvPicPr/>
          <p:nvPr/>
        </p:nvPicPr>
        <p:blipFill>
          <a:blip r:embed="rId1"/>
          <a:stretch/>
        </p:blipFill>
        <p:spPr>
          <a:xfrm>
            <a:off x="2066760" y="50760"/>
            <a:ext cx="7005960" cy="5092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79200" y="4446720"/>
            <a:ext cx="87789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 Unicode MS"/>
              </a:rPr>
              <a:t>Todos transfigurados, a pesar de la desfiguración huma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71280" y="254160"/>
            <a:ext cx="1908360" cy="3993480"/>
          </a:xfrm>
          <a:prstGeom prst="rect">
            <a:avLst/>
          </a:prstGeom>
          <a:gradFill rotWithShape="0">
            <a:gsLst>
              <a:gs pos="0">
                <a:srgbClr val="32230c"/>
              </a:gs>
              <a:gs pos="100000">
                <a:srgbClr val="ba81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ajando del Tabor, nos acom-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000080" y="231840"/>
            <a:ext cx="7172280" cy="4643280"/>
          </a:xfrm>
          <a:prstGeom prst="rect">
            <a:avLst/>
          </a:prstGeom>
          <a:gradFill rotWithShape="0">
            <a:gsLst>
              <a:gs pos="0">
                <a:srgbClr val="c3872f"/>
              </a:gs>
              <a:gs pos="100000">
                <a:srgbClr val="62441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692360" y="639720"/>
            <a:ext cx="5759280" cy="4895640"/>
          </a:xfrm>
          <a:prstGeom prst="rect">
            <a:avLst/>
          </a:prstGeom>
          <a:gradFill rotWithShape="0">
            <a:gsLst>
              <a:gs pos="0">
                <a:srgbClr val="32230c"/>
              </a:gs>
              <a:gs pos="100000">
                <a:srgbClr val="ba812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Señor, nosotros queremos vivir el MISTERIO en cada circunstancia,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por desfigurada que sea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hasta el día en que vengas, a TRANSFIGURARNOS definitivament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8"/>
          <p:cNvSpPr/>
          <p:nvPr/>
        </p:nvSpPr>
        <p:spPr>
          <a:xfrm>
            <a:off x="0" y="4743360"/>
            <a:ext cx="7885080" cy="398880"/>
          </a:xfrm>
          <a:prstGeom prst="rect">
            <a:avLst/>
          </a:prstGeom>
          <a:solidFill>
            <a:srgbClr val="a37b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 Unicode MS"/>
              </a:rPr>
              <a:t>Y NOS TRANSFORMAMOS EN NUESTRA IMAGEN  DEFIN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8"/>
          <p:cNvSpPr/>
          <p:nvPr/>
        </p:nvSpPr>
        <p:spPr>
          <a:xfrm>
            <a:off x="0" y="1177920"/>
            <a:ext cx="1979640" cy="3521880"/>
          </a:xfrm>
          <a:prstGeom prst="rect">
            <a:avLst/>
          </a:prstGeom>
          <a:solidFill>
            <a:srgbClr val="5a3e1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Cuando miramos las cosas desde su TRANSFI-GURACION hacemos camino cuaresmal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8"/>
          <p:cNvSpPr/>
          <p:nvPr/>
        </p:nvSpPr>
        <p:spPr>
          <a:xfrm>
            <a:off x="7643880" y="0"/>
            <a:ext cx="1500120" cy="7642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Arial Unicode MS"/>
              </a:rPr>
              <a:t>Iglesia del Tab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71280" y="4162320"/>
            <a:ext cx="6032520" cy="9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14200" y="4297320"/>
            <a:ext cx="5708880" cy="70380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njas  de  S. Benito de Montserrat</a:t>
            </a:r>
            <a:br>
              <a:rPr sz="2000"/>
            </a:br>
            <a:r>
              <a:rPr b="0" lang="es-E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onestirsantbenetmontserrat.cat/re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t benet\Mis documentos\Fotos\SBw.jpg"/>
          <p:cNvPicPr/>
          <p:nvPr/>
        </p:nvPicPr>
        <p:blipFill>
          <a:blip r:embed="rId2"/>
          <a:stretch/>
        </p:blipFill>
        <p:spPr>
          <a:xfrm>
            <a:off x="428760" y="4286160"/>
            <a:ext cx="714240" cy="357120"/>
          </a:xfrm>
          <a:prstGeom prst="rect">
            <a:avLst/>
          </a:prstGeom>
          <a:ln w="38160">
            <a:solidFill>
              <a:srgbClr val="595959"/>
            </a:solidFill>
            <a:miter/>
          </a:ln>
        </p:spPr>
      </p:pic>
    </p:spTree>
  </p:cSld>
  <p:transition spd="slow">
    <p:fade thruBlk="true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214200" y="428760"/>
            <a:ext cx="8785440" cy="558036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7,1-9 En aquel tiempo,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tomó consigo a Pedro,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Santiago y a su hermano Juan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e los llevó aparte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una montaña alta.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transfiguró delante de ellos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7 Imagen" descr="resized_lmqwichow.jpg"/>
          <p:cNvPicPr/>
          <p:nvPr/>
        </p:nvPicPr>
        <p:blipFill>
          <a:blip r:embed="rId1"/>
          <a:stretch/>
        </p:blipFill>
        <p:spPr>
          <a:xfrm>
            <a:off x="2278080" y="0"/>
            <a:ext cx="686592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08000" y="179280"/>
            <a:ext cx="2963880" cy="180036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 el horizonte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la Cuaresma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y una trans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2920" y="2157480"/>
            <a:ext cx="2928960" cy="28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Hemos de pasar del exterior al interior, de la apariencia 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a la rea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179280" y="239760"/>
            <a:ext cx="8856720" cy="466596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…</a:t>
            </a: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u rostro resplandecía como el sol, y sus vestidos 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volvieron blancos como la luz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6 Imagen" descr="Imagen66w.jpg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0" y="0"/>
            <a:ext cx="6858000" cy="61164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Jesús es una LUZ</a:t>
            </a:r>
            <a:r>
              <a:rPr b="1" lang="es-ES" sz="3400" spc="-1" strike="noStrike">
                <a:solidFill>
                  <a:srgbClr val="ffffff"/>
                </a:solidFill>
                <a:latin typeface="Arial"/>
              </a:rPr>
              <a:t> que se propag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929280" y="96840"/>
            <a:ext cx="221472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anta más LUZ nos d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ás le queda, hasta el día en que su Amor habrá vencido nuestra osc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0"/>
          <p:cNvSpPr/>
          <p:nvPr/>
        </p:nvSpPr>
        <p:spPr>
          <a:xfrm>
            <a:off x="755640" y="1077840"/>
            <a:ext cx="7632720" cy="466596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e les aparecieron Moisés y Elías conversando con é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6 Imagen" descr="ConjuntBast.jpg"/>
          <p:cNvPicPr/>
          <p:nvPr/>
        </p:nvPicPr>
        <p:blipFill>
          <a:blip r:embed="rId1"/>
          <a:stretch/>
        </p:blipFill>
        <p:spPr>
          <a:xfrm>
            <a:off x="3381480" y="0"/>
            <a:ext cx="5762520" cy="5143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08000" y="2284560"/>
            <a:ext cx="3214800" cy="42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 Unicode MS"/>
              </a:rPr>
              <a:t>Su Palabra, hecha evangelio, nos enseña a ser personas transformadas y  transformad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3500280" cy="265356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Con Jesús la Palabra de Dios: Ley y Profetas, (Moisés y Elías) toman un nuevo 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28760" y="81000"/>
            <a:ext cx="8286480" cy="489456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dro, entonces,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mó la palabra y dijo a Jesús: «Señor, ¡qué bien se está aquí! Si quieres, haré tres tiendas: una para ti,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tra para Moisés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otra para Elías»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20-02-26T16:26:58Z</dcterms:modified>
  <cp:revision>613</cp:revision>
  <dc:subject/>
  <dc:title>evangelio</dc:title>
</cp:coreProperties>
</file>