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29.gif" ContentType="image/gif"/>
  <Override PartName="/ppt/media/image25.png" ContentType="image/png"/>
  <Override PartName="/ppt/media/image22.gif" ContentType="image/gif"/>
  <Override PartName="/ppt/media/image26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89CEC-3C7C-4A9C-8D4D-0A8DB4BC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0E0A6A-9CB5-4182-9F2F-4FA65DF5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2C4F7-7707-449E-90E0-4D06FA1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B82A9-C4F8-43ED-BCA6-018F9E03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B01D0-885D-4F5E-9781-8B38477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69F4D-ACBD-4588-92A0-B6089DF7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CB1D5-8F69-4BD6-9DB4-C26B4F7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8D4FB-137B-4DBF-B8C7-E40BCB2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23C90-727A-4E3D-BB27-57D9E93F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DCA4F-FA7A-4947-8659-8E76B11D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35C8D-25C9-4B34-AEFC-956F5053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F2B7F-C677-4C1F-8F9E-5C1D6F60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723-F915-4CB1-91F7-A892A83B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A10FC2-AB31-4852-8A79-3E93CEB5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17FDA4-9E6E-4497-82C2-90C8D458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8DAA9-3FE5-4F58-9E55-D24E0BCA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79506-57F5-44FE-B72F-F38CAD7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F0CEBF-5C11-4034-858C-AE44CFF8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DE605-4CED-4ADA-969E-1DAE320A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9104A-248E-43C5-8D5C-1883CD3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2F0-1C34-4337-80D2-190598E2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83359B-B350-4F55-A073-919DC285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C8A2A-2835-4885-AE4E-B11C0CD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7D172-AF60-4B83-8314-827005D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F1902-33E5-48F1-AE80-EF4C47BC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2CB7D-C9D3-4C5C-8B9C-A4B30EE3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2174A-38ED-4397-988E-856BC48A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3292A-CAB9-4453-AC98-665222F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DC941B-75D9-4398-BA34-693199BA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BB1F1-872F-414B-81BD-2F4FB59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E9F5B8-0D82-4167-8961-F7DF3584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D52-748E-4214-969F-86E55164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46773-60A9-4D1C-B5F1-9E0B3C95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7353E-8DFA-457A-8661-83C0210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0E2F9-2B4D-4014-8991-5AABE41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504B5-1AF1-4410-907F-16D70D8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31E0C-A0A0-43B1-8AE0-476C982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FFE9C-DEE6-4738-8831-6FF544DA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0485E-D11D-4E57-9E2C-AC005295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BA606-0684-475C-85D4-E9205AD0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FA0BB-D525-414C-9894-8C6119E6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AA78D7-1A73-435A-AE67-CD13C328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DD1-68FE-44B4-A191-C06254B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E9DA76-9463-401A-AFBC-8055F07C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EB7BD-0466-4AE7-88DD-10FDC79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EE42E-FB90-423C-A253-5D5DC35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44056D-BB9E-403D-B571-84BE508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95CE35-270F-49F9-861A-D46A80F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ABBAD-CBEA-474B-9545-94B53A7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51AAFC-C95D-4139-B655-96D350C9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C34AD-BCA5-41F0-9915-965B40AE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782602-A47D-47E3-BDB9-8DE7298A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41F-6ED5-40A9-8C04-06EE1BE6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EA1-B678-4CB4-89E5-47C17C0A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B2D-8C97-42C2-A879-11FC8F7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7FA-E99D-4033-9E19-725F100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3C6-3CE2-4BE8-8525-71BE3F72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811-6FF5-4558-9575-95655E2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DEA-2D65-49CF-B052-F1C10250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54B0-C708-4800-8BF5-079908F9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D1E-68B0-44FE-8B68-21274C62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BE10-5265-46BB-AC33-69E63A1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2068-3A76-4EC5-9F31-A4A6B51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A6E-CEA7-447C-8497-536AA60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9A5F-A6D3-4BF9-A361-C3385E9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BF2E-D7A3-44FC-BAA9-1DE964D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AFD4-95C8-4B8C-BF4E-3FA50EAA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EA52-E63C-48A6-BC7A-BEC31E1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9AD3-640C-4604-84BE-AB7E88E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06F-97F1-49E9-BD2C-A3CDE641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73CA-9E42-4D97-9165-401FB818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7106-22B2-41C9-A732-199BF982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5DDAA-CAEC-4916-BC0B-E84BB4E4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E1BFE-B30D-46C3-9BA4-3E75759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8E9C8-5E56-49A5-9E7F-0DA9F9F2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C28AC-8846-4F19-BEBF-A5B75BD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FC816-8BBC-43BA-8D54-2E6D4F9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8446-57C4-4D54-AA53-8D2E329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3AFF8-395B-4125-A355-29F902C6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5C3E4-82CB-4FC7-BED8-946353D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AAC4E-20E7-49D3-BCA4-BFB15AC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37035-55F5-4A17-81A0-9C7D408B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3004A-71B4-4251-A477-DC5043DA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E580D-F666-479D-98A2-4EBFD1F5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04F8D-52D2-4C5D-8294-A9B18E587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9D120-6CB0-4A97-B041-7D5CC850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FC8D7-1DBC-45EF-8557-A904B724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536D2-5803-47BF-AB71-54AD958E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CB312-710D-4A6B-8F73-4A711B55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A78E6-F813-4E96-8697-6C029739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C7EC0-D085-42E6-9280-092D0E2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CFE57-F358-4799-80FD-FA3FF79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2BBCD-5F2B-415C-BD4E-C5568791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FD204-73DA-4F09-8C1F-C52DFC88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9039D-C841-45AD-8E2E-508E963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07C99-E00A-41E9-ACFF-69CD20D45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C531C-2933-4683-8D77-99169D54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3579F-CAAE-4FE4-896E-6895E58F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56C69-659D-4FD8-8B51-F942D13C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26DD2-039C-46F0-9061-56CA430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C5490-EA1E-45EC-9EAC-1FC28BA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C76BD-4C6E-4FAB-BC53-D0954891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F86461-F4E5-4D0E-8541-2654FE3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6ACD4-107E-4ADE-A516-438723B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47083-84A1-4B4A-A8E9-169C74E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A787D-45D6-4D11-9813-6F113F62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EE9A5-D84F-4DE6-BB40-FDCAF67F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88BD13-0774-4A47-B6A2-697138D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83638-B5A1-4FDE-BFA0-F46443C9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4CF28-9AA6-481A-AD1F-FDCF655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0A124-BAD8-4269-9537-34E3DDFD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4A17D-F65B-4BE5-95AB-21C52360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0CA7E-F531-4C31-80E0-35C90A7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B5263-227D-44A2-A851-DD3D402D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0DF5E-3EEE-4159-B413-51063802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167F9-702D-431C-BFB2-33D28C2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CA7E2-E13D-43B1-BE70-32BDBFC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5445B-5AD9-48BA-88D5-D61BAB4C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0AA89-4583-4111-84F5-32CACD0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F9152-B870-485D-9076-7F05D939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8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9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0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72C1-5C47-4AE5-A230-1A841C93EE5B}" type="slidenum">
              <a:rPr b="0" lang="en-US" sz="10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psam_pg1NE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65" name="Picture 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0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Rectangle 1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2E3-F155-4934-B362-6882C81C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4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2"/>
          <p:cNvSpPr/>
          <p:nvPr/>
        </p:nvSpPr>
        <p:spPr>
          <a:xfrm>
            <a:off x="-33480" y="-33480"/>
            <a:ext cx="9577440" cy="681840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  <a:effectLst>
            <a:outerShdw dist="88920" dir="5400000" blurRad="0" rotWithShape="0">
              <a:srgbClr val="342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14" name="Group 8"/>
          <p:cNvGrpSpPr/>
          <p:nvPr/>
        </p:nvGrpSpPr>
        <p:grpSpPr>
          <a:xfrm>
            <a:off x="6076800" y="152280"/>
            <a:ext cx="2846520" cy="3312720"/>
            <a:chOff x="6076800" y="152280"/>
            <a:chExt cx="2846520" cy="3312720"/>
          </a:xfrm>
        </p:grpSpPr>
        <p:grpSp>
          <p:nvGrpSpPr>
            <p:cNvPr id="515" name="Group 9"/>
            <p:cNvGrpSpPr/>
            <p:nvPr/>
          </p:nvGrpSpPr>
          <p:grpSpPr>
            <a:xfrm>
              <a:off x="6076800" y="1291320"/>
              <a:ext cx="2172960" cy="2173680"/>
              <a:chOff x="6076800" y="1291320"/>
              <a:chExt cx="2172960" cy="2173680"/>
            </a:xfrm>
          </p:grpSpPr>
          <p:sp>
            <p:nvSpPr>
              <p:cNvPr id="516" name="AutoShape 10"/>
              <p:cNvSpPr/>
              <p:nvPr/>
            </p:nvSpPr>
            <p:spPr>
              <a:xfrm>
                <a:off x="6076800" y="1291320"/>
                <a:ext cx="2172960" cy="217368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17" name="AutoShape 11"/>
              <p:cNvSpPr/>
              <p:nvPr/>
            </p:nvSpPr>
            <p:spPr>
              <a:xfrm>
                <a:off x="6551280" y="1765800"/>
                <a:ext cx="1223280" cy="122616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12"/>
            <p:cNvGrpSpPr/>
            <p:nvPr/>
          </p:nvGrpSpPr>
          <p:grpSpPr>
            <a:xfrm>
              <a:off x="8146080" y="1549080"/>
              <a:ext cx="645480" cy="645840"/>
              <a:chOff x="8146080" y="1549080"/>
              <a:chExt cx="645480" cy="645840"/>
            </a:xfrm>
          </p:grpSpPr>
          <p:sp>
            <p:nvSpPr>
              <p:cNvPr id="519" name="AutoShape 13"/>
              <p:cNvSpPr/>
              <p:nvPr/>
            </p:nvSpPr>
            <p:spPr>
              <a:xfrm>
                <a:off x="8146080" y="1549080"/>
                <a:ext cx="645480" cy="6458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0" name="AutoShape 14"/>
              <p:cNvSpPr/>
              <p:nvPr/>
            </p:nvSpPr>
            <p:spPr>
              <a:xfrm>
                <a:off x="8287200" y="1690200"/>
                <a:ext cx="362880" cy="3632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5"/>
            <p:cNvGrpSpPr/>
            <p:nvPr/>
          </p:nvGrpSpPr>
          <p:grpSpPr>
            <a:xfrm>
              <a:off x="7448040" y="152280"/>
              <a:ext cx="1475280" cy="1475640"/>
              <a:chOff x="7448040" y="152280"/>
              <a:chExt cx="1475280" cy="1475640"/>
            </a:xfrm>
          </p:grpSpPr>
          <p:sp>
            <p:nvSpPr>
              <p:cNvPr id="522" name="AutoShape 16"/>
              <p:cNvSpPr/>
              <p:nvPr/>
            </p:nvSpPr>
            <p:spPr>
              <a:xfrm>
                <a:off x="7448040" y="152280"/>
                <a:ext cx="1475280" cy="147564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23" name="AutoShape 17"/>
              <p:cNvSpPr/>
              <p:nvPr/>
            </p:nvSpPr>
            <p:spPr>
              <a:xfrm>
                <a:off x="7769880" y="474480"/>
                <a:ext cx="830520" cy="832320"/>
              </a:xfrm>
              <a:prstGeom prst="pie">
                <a:avLst/>
              </a:prstGeom>
              <a:solidFill>
                <a:srgbClr val="504d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6"/>
          </p:nvPr>
        </p:nvSpPr>
        <p:spPr>
          <a:xfrm>
            <a:off x="6876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33C-5D02-4F09-9EFF-466976CA5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0FDD-FE7F-4EC3-89AC-69ED8537EEB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titleslide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D774-CB7C-44E3-BB05-FD5ED71D0ABC}" type="slidenum">
              <a:rPr b="0" lang="en-US" sz="1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sa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7404-34A6-4392-A33B-F37DC2005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8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51CB-B461-46C4-A48A-7C86F0EC4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128" name="Picture 9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1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94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-17640" y="6222960"/>
            <a:ext cx="9172800" cy="66204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-33480" y="-44280"/>
            <a:ext cx="9580680" cy="2172960"/>
          </a:xfrm>
          <a:prstGeom prst="pie">
            <a:avLst/>
          </a:prstGeom>
          <a:solidFill>
            <a:srgbClr val="504d80"/>
          </a:solidFill>
          <a:ln w="9360">
            <a:solidFill>
              <a:srgbClr val="504d80"/>
            </a:solidFill>
            <a:round/>
          </a:ln>
          <a:effectLst>
            <a:outerShdw dist="88920" dir="5400000" blurRad="0" rotWithShape="0">
              <a:srgbClr val="342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27792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6794640" y="6497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FC72-4813-4FEA-BA3C-8C16563CA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7696080" y="5192640"/>
            <a:ext cx="1236960" cy="1440000"/>
            <a:chOff x="7696080" y="5192640"/>
            <a:chExt cx="1236960" cy="1440000"/>
          </a:xfrm>
        </p:grpSpPr>
        <p:grpSp>
          <p:nvGrpSpPr>
            <p:cNvPr id="175" name="Group 8"/>
            <p:cNvGrpSpPr/>
            <p:nvPr/>
          </p:nvGrpSpPr>
          <p:grpSpPr>
            <a:xfrm>
              <a:off x="7696080" y="5687640"/>
              <a:ext cx="944640" cy="945000"/>
              <a:chOff x="7696080" y="5687640"/>
              <a:chExt cx="944640" cy="945000"/>
            </a:xfrm>
          </p:grpSpPr>
          <p:sp>
            <p:nvSpPr>
              <p:cNvPr id="176" name="AutoShape 9"/>
              <p:cNvSpPr/>
              <p:nvPr/>
            </p:nvSpPr>
            <p:spPr>
              <a:xfrm>
                <a:off x="7696080" y="5687640"/>
                <a:ext cx="944640" cy="94500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7" name="AutoShape 10"/>
              <p:cNvSpPr/>
              <p:nvPr/>
            </p:nvSpPr>
            <p:spPr>
              <a:xfrm>
                <a:off x="7902360" y="5893920"/>
                <a:ext cx="531720" cy="53208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1"/>
            <p:cNvGrpSpPr/>
            <p:nvPr/>
          </p:nvGrpSpPr>
          <p:grpSpPr>
            <a:xfrm>
              <a:off x="8595360" y="5800320"/>
              <a:ext cx="281160" cy="281160"/>
              <a:chOff x="8595360" y="5800320"/>
              <a:chExt cx="281160" cy="281160"/>
            </a:xfrm>
          </p:grpSpPr>
          <p:sp>
            <p:nvSpPr>
              <p:cNvPr id="179" name="AutoShape 12"/>
              <p:cNvSpPr/>
              <p:nvPr/>
            </p:nvSpPr>
            <p:spPr>
              <a:xfrm>
                <a:off x="8595360" y="5800320"/>
                <a:ext cx="281160" cy="28116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8657280" y="5862240"/>
                <a:ext cx="157320" cy="15732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"/>
            <p:cNvGrpSpPr/>
            <p:nvPr/>
          </p:nvGrpSpPr>
          <p:grpSpPr>
            <a:xfrm>
              <a:off x="8291880" y="5192640"/>
              <a:ext cx="641160" cy="641520"/>
              <a:chOff x="8291880" y="5192640"/>
              <a:chExt cx="641160" cy="641520"/>
            </a:xfrm>
          </p:grpSpPr>
          <p:sp>
            <p:nvSpPr>
              <p:cNvPr id="182" name="AutoShape 15"/>
              <p:cNvSpPr/>
              <p:nvPr/>
            </p:nvSpPr>
            <p:spPr>
              <a:xfrm>
                <a:off x="8291880" y="5192640"/>
                <a:ext cx="641160" cy="64152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3" name="AutoShape 16"/>
              <p:cNvSpPr/>
              <p:nvPr/>
            </p:nvSpPr>
            <p:spPr>
              <a:xfrm>
                <a:off x="8431560" y="5331960"/>
                <a:ext cx="361800" cy="361800"/>
              </a:xfrm>
              <a:prstGeom prst="pie">
                <a:avLst/>
              </a:prstGeom>
              <a:solidFill>
                <a:srgbClr val="8794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B710-62C4-40F3-B5AA-5012A0CB146A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2ndslideimag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4E39-0025-4E88-BC38-9046CF9B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9200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ALISA PULANG – POKOK 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4170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Unsur dasar analisa pulang – pokok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Tipe analisa pulang – pokok yg ada bagi wirausahawan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Hubungan antara analisa pulang – pokok dg pegnawasan 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  <a:p>
            <a:pPr marL="452520" indent="-452520">
              <a:lnSpc>
                <a:spcPct val="110000"/>
              </a:lnSpc>
              <a:spcBef>
                <a:spcPts val="1925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cf48c"/>
                </a:solidFill>
                <a:latin typeface="Arial Narrow"/>
              </a:rPr>
              <a:t>Keterbatasan analisa pulang - pokok</a:t>
            </a: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. MENCARI SUMBER MODAL USAH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58560" y="2420640"/>
            <a:ext cx="742788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 MT"/>
              </a:rPr>
              <a:t>PRIBAD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 MT"/>
              </a:rPr>
              <a:t>PREFERENSI INVEST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. BERHUBUNGAN DENGAN PEMO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38224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yg dihindari investor: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81ca6a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tidak dikenalnya wirausahawan yg mungkin menyebabkan hilangnya moda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81ca6a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Resiko hilangnya waktu yg digunakan untuk proyek yg tdk produktif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68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68" fill="hold"/>
                                        <p:tgtEl>
                                          <p:spTgt spid="7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68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68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Bentuk investasi yg dipilih pemodal biasanya adl “SURAT HUTANG” (debenture) yg bisa dikonversi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Yaitu instrumen hutang yg mempunyai syarat-syarat melindungi tetapi tanpa jaminan aktiva dan bisa dikonversikan dg saham pada harga konversi tertentu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Penentuan jumlah kepemilikan &amp; penentuan harga dari saham untuk menstruktur penawaran yg menarik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</a:rPr>
              <a:t>METODE PERKALIAN HARGA / PENDAPATAN PERTAMA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membandingkan perusahan dg perusahaan pemerintah yg sama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entury Gothic"/>
              </a:rPr>
              <a:t>METODE TINGKAT HASIL (RATE OF RETURN)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27277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 perkiraan luas jangkauan (range) tingkat hasil yg diperlukan.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68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68" fill="hold"/>
                                        <p:tgtEl>
                                          <p:spTgt spid="7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68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ENILAIAN PERUSAHAA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fat &amp; sejarah dari bisn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ondisi perekonomian pada umumnya maupun kondisi dari indust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ilai buku (nilai bersih) dari saham dan kondisi finansial keseluruha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mampuan untuk menghasilkan pendapatan di masa depa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mampuan membayar deviden dari perusaha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ilaian dari hubungan baik dan harga tak kentara dari usaha terseb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ilaian penjualan sah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ga pasar dari perusahaan yg terlibat dalam jenis usaha yg sama atau identi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’rima kasih…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5" name="Picture 4" descr="5091873"/>
          <p:cNvPicPr/>
          <p:nvPr/>
        </p:nvPicPr>
        <p:blipFill>
          <a:blip r:embed="rId1"/>
          <a:stretch/>
        </p:blipFill>
        <p:spPr>
          <a:xfrm>
            <a:off x="2771640" y="2133720"/>
            <a:ext cx="3313080" cy="3097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sun_beachball"/>
          <p:cNvPicPr/>
          <p:nvPr/>
        </p:nvPicPr>
        <p:blipFill>
          <a:blip r:embed="rId2"/>
          <a:stretch/>
        </p:blipFill>
        <p:spPr>
          <a:xfrm>
            <a:off x="792000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32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5" descr="4970389"/>
          <p:cNvPicPr/>
          <p:nvPr/>
        </p:nvPicPr>
        <p:blipFill>
          <a:blip r:embed="rId1"/>
          <a:stretch/>
        </p:blipFill>
        <p:spPr>
          <a:xfrm>
            <a:off x="8028000" y="189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j0236360"/>
          <p:cNvPicPr/>
          <p:nvPr/>
        </p:nvPicPr>
        <p:blipFill>
          <a:blip r:embed="rId2"/>
          <a:stretch/>
        </p:blipFill>
        <p:spPr>
          <a:xfrm>
            <a:off x="146160" y="760320"/>
            <a:ext cx="3562200" cy="7632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UNSUR DASAR ANALISA PULANG - POKOK</a:t>
            </a:r>
            <a:endParaRPr b="0" lang="en-US" sz="24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240" y="134100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Tetap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Pengeluaran yg diadakan tanpa melihat jml produk yg dihasilka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Variabel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pengeluaran yg berfluktuasi dg jml produk yg dihasilkan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Biaya Total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total biaya tetap &amp; biaya variabel yg berkaitan dg produksi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Pendapat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Total : semua nilai rupiah penjualan yg terakumulasi dr penjualan produk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Keuntung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pendapatan total yg melebihi biaya total dr produksi barang yg dijua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Kerugian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jml biaya total produksi barang yg melebihi pendapatan total yg d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eroleh dr penjualan barang tsb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 Narrow"/>
              </a:rPr>
              <a:t>Titik Pulang Pokok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 : situasi dimana pendapatan total = biaya totalnya, 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sehingga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cukup utk menutup biaya-biayanya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0560" y="255240"/>
            <a:ext cx="8497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 PROSEDUR MENENTUKA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ITIK PULANG - POKOK </a:t>
            </a:r>
            <a:endParaRPr b="1" lang="en-US" sz="32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971640" y="2276640"/>
            <a:ext cx="7343640" cy="42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362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ALISA PULANG – POKOK ALJABA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NALISA PULANG – POKOK GRAFI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Clr>
                <a:srgbClr val="839ee3"/>
              </a:buClr>
              <a:buFont typeface="Arial"/>
              <a:buAutoNum type="arabicPeriod"/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743040" indent="-362160">
              <a:lnSpc>
                <a:spcPct val="90000"/>
              </a:lnSpc>
              <a:spcBef>
                <a:spcPts val="700"/>
              </a:spcBef>
              <a:buClr>
                <a:srgbClr val="839ee3"/>
              </a:buClr>
              <a:buFont typeface="Arial"/>
              <a:buAutoNum type="arabicPeriod"/>
              <a:tabLst>
                <a:tab algn="l" pos="1492200"/>
                <a:tab algn="l" pos="2111400"/>
                <a:tab algn="l" pos="3832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8700"/>
                </a:solidFill>
                <a:latin typeface="Arial Narrow"/>
              </a:rPr>
              <a:t>ANALISA PULANG – POKOK ALJABA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00040" y="99972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BE 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=     FC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 – VC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Dimana :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E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T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tik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roduksi dimana perushaan mengalami T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itik Pulang Pokok. (Break Even Point atau BE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FC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iaya tetap produksi total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 (Fixed Cost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harga tiap unit 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barang yang dijual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VC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Bi. Variabel yg berkaitan dg tiap produk yg 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dihasilkan dan dijual</a:t>
            </a:r>
            <a:r>
              <a:rPr b="1" lang="id-ID" sz="2400" spc="-1" strike="noStrike">
                <a:solidFill>
                  <a:srgbClr val="fcf48c"/>
                </a:solidFill>
                <a:latin typeface="Arial Narrow"/>
              </a:rPr>
              <a:t> (Variable Cost)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4" name="Line 4"/>
          <p:cNvSpPr/>
          <p:nvPr/>
        </p:nvSpPr>
        <p:spPr>
          <a:xfrm>
            <a:off x="1785960" y="2143080"/>
            <a:ext cx="1079640" cy="0"/>
          </a:xfrm>
          <a:prstGeom prst="line">
            <a:avLst/>
          </a:prstGeom>
          <a:ln cap="sq" w="12600">
            <a:solidFill>
              <a:srgbClr val="fcf4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ontoh..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28760" y="1142640"/>
            <a:ext cx="7696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Sebuah perusahaan penerbit buku teks bisa menghadapi biaya tetap dan viaya varibel per buku teks spt yg disajikan pada tabel.  Penerbit ingin menjual tiap buku teks seharga Rp. 12.000,-.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48c"/>
                </a:solidFill>
                <a:latin typeface="Arial Narrow"/>
              </a:rPr>
              <a:t>Hitung titik pulang – pokok untuk penerbi tsb!</a:t>
            </a:r>
            <a:endParaRPr b="1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rcRect l="8790" t="20411" r="7940" b="28518"/>
          <a:stretch/>
        </p:blipFill>
        <p:spPr>
          <a:xfrm>
            <a:off x="755640" y="1413000"/>
            <a:ext cx="7812000" cy="444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8700"/>
                </a:solidFill>
                <a:latin typeface="Arial Narrow"/>
              </a:rPr>
              <a:t>ANALISA PULANG – POKOK GRAFIK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700" name="Picture 4" descr=""/>
          <p:cNvPicPr/>
          <p:nvPr/>
        </p:nvPicPr>
        <p:blipFill>
          <a:blip r:embed="rId1"/>
          <a:srcRect l="20477" t="21465" r="17513" b="12586"/>
          <a:stretch/>
        </p:blipFill>
        <p:spPr>
          <a:xfrm>
            <a:off x="1116000" y="134136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110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75000" y="1918080"/>
            <a:ext cx="7855920" cy="4029840"/>
          </a:xfrm>
          <a:prstGeom prst="rect">
            <a:avLst/>
          </a:prstGeom>
          <a:solidFill>
            <a:srgbClr val="504d8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nalisa pulang – pokok adalah alat pengawasan yg berguna didalam membantu wirausahawan utk mengerti hubungan antara biaya tetap,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variabel,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otal, keuntungan &amp; kerug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ngaruh d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etap &amp; b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iaya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variabel yg meningkat &amp; penurunan harga jual pd titik pulang – pokok</a:t>
            </a:r>
            <a:r>
              <a:rPr b="0" lang="id-ID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600" spc="-1" strike="noStrike">
              <a:solidFill>
                <a:srgbClr val="8a8700"/>
              </a:solidFill>
              <a:latin typeface="Arial Black"/>
            </a:endParaRPr>
          </a:p>
        </p:txBody>
      </p:sp>
      <p:pic>
        <p:nvPicPr>
          <p:cNvPr id="704" name="Picture 3" descr=""/>
          <p:cNvPicPr/>
          <p:nvPr/>
        </p:nvPicPr>
        <p:blipFill>
          <a:blip r:embed="rId1"/>
          <a:srcRect l="19082" t="14003" r="21042" b="68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05:26:20Z</dcterms:created>
  <dc:creator>Ronny S. S.</dc:creator>
  <dc:description/>
  <dc:language>en-US</dc:language>
  <cp:lastModifiedBy>compaq</cp:lastModifiedBy>
  <dcterms:modified xsi:type="dcterms:W3CDTF">2012-04-18T12:42:46Z</dcterms:modified>
  <cp:revision>130</cp:revision>
  <dc:subject/>
  <dc:title>KULIAH  - 4</dc:title>
</cp:coreProperties>
</file>