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29.gif" ContentType="image/gif"/>
  <Override PartName="/ppt/media/image25.png" ContentType="image/png"/>
  <Override PartName="/ppt/media/image22.gif" ContentType="image/gif"/>
  <Override PartName="/ppt/media/image26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6D476-D7C7-4445-8766-252AE384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4FBDA-EFB5-4953-A337-9665B19A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FEF0F-B3F6-47F2-BFF5-92761431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6ED70-E735-42A0-BF1D-5B24637B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6AADE-7812-4E20-B287-B10F7D84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BBF4A-C57A-4DAE-A7A5-C0C4BB3D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9D0B2-378C-41E2-B179-21E30E6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C019D-D240-4CA4-905E-2DA8527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080C7-2441-4140-B0D9-5DB6FAF2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4315D-279D-4F66-861B-05A05DEB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DFB5C-3912-4670-8EC1-C63E7771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107CC-DD0F-4A83-AF13-F5513F85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ED5-1B3C-4819-9FA4-FF4B30A8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C74CE-709F-4491-948D-A02349E9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6629ED-67EC-489B-BC5F-8DC3569D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62230A-C3D8-4BDB-8F89-44769D13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4A64D-0FE4-4E2B-9D96-13C467F6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D4B5B-7ECC-47AB-86B0-333B30FC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AEC3C2-DC4C-4BEC-B3C9-DD8FDD78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156FFB-2734-4E53-8A1D-D27D3394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2C5-FCA9-4635-84F8-8C2453B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EEBED-2EE1-4258-99C0-AC0574DF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9CBD3E-B262-4972-872E-B5CA11D2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05F815-DDB8-438C-A09A-FBFB73B4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232002-13DF-445E-BE21-8C4A61EE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3E1633-CAE7-4562-B750-C91A6871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51F5D4-DB9E-46BE-A878-8EFBE40A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44DC1-9D37-474F-9CAF-2E42DF03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32ACC5-3962-4381-9415-3FC1AFD8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20C2A-D49C-40FB-820A-ED45CCEA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9CA9D-FEFA-4F49-B108-9597CE7D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73A-AFE7-4834-A2AB-FAB1BAC2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61D828-504E-4976-B926-F56A4817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512EF8-18C1-48E8-8642-654839F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D885EA-F119-4D81-B617-4A494812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E6DFD-0D68-4E25-BB65-38FA14D0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578BA6-BFED-4AAE-AC7C-39C416C6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3D71A7-93B9-4345-B045-FF8F9462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20F119-5F6F-4A11-B2B6-1A2F059A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D3ADC1-052E-4E44-B7E6-D03ABB1F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939EF9-3FB0-4F9C-B9DF-8727472E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1202AA-4190-4C09-B66C-89E480C1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8E0-7FF4-49A7-9EB0-0CADBA0C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F5205E-84D3-4A29-9E6F-2060CC4D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371E41-C782-4542-B623-7A03EE3E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FA9785-6792-4563-828D-179FA578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93F418-AFA9-44A3-BB62-98F92FA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5CA698-DD45-49C5-ABF9-B25231E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DC4AE3-806D-4AB1-B32D-FE129E4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FDFEDA-7B9C-4EDB-801C-6B5A86AB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2020F1-4F7F-46F3-93B1-381F81AC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557358-6917-43CE-A17D-63FB1769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6E6-C53A-47B2-8439-2F5DF205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221-7F4D-4B01-94D4-F627F02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BC0-4CEF-48D8-8EC0-BFF6A7C5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1B3-4A8F-49F0-889B-6E80B1F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C51-E093-44A7-ABD0-542AE55D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F87-B3C4-4CDC-A843-4B557252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0DC-249A-4B1E-9830-D5059569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F96-B208-47AF-835E-EC8213E1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2E46-3496-40A1-AE17-8B9A7F39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6B28-AB07-434C-9D07-76106AFA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75C4-93DD-4872-A968-D87D9FEB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FA84-720B-471A-A5CA-38DBCA90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0CB8-F1A1-4386-8E8F-373AD50B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5B73-7EEA-47A4-8833-505D2BCA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FFFE-D72C-4C7A-A040-14587BF6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5390-952E-4227-8F83-F5239EC0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9F4C-74B5-42B4-8E19-3375B562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FFC4-E107-4E2F-AECF-676D406D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D3F1-842A-453D-9DCD-BF494755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AF3A-3B14-43A6-B0BF-D94649BC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AE960-16B1-4542-835B-9ACED1B8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596C0-D36B-47FF-9C1B-15039134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3137A-E4F5-4BF8-BF6B-48253D5F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715F6-C32C-4DDC-9320-D65FC512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B69A4-CCF8-41F6-8A99-B5766F7D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E1768-2D6F-4E34-BCF0-093EF7EA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49DDA-12FE-415C-A900-2751CCD1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A8990-FFA2-48A5-8E11-307F7825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8E4A4-0FC8-4F60-99B6-1FDA6385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18137-9DE9-44E5-9F59-B12AF2B5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7BF48-2EF2-44A9-8466-38DD549B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A0A40-B4E1-4A1C-BBFA-398E5F99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18733-6CA5-47C0-8574-4E3FBE2686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0FB80-7992-4D07-9281-862750BC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67B4F-7961-4308-9480-628408E3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D0D47-22DF-4EEA-9903-1A9D1F83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1A7E0-FEFD-4350-AB4D-6BA1C9B7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6BC67-30BC-473C-AAAB-7A86C089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CFA9D-8B95-483F-A5A6-AB9AE421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F727B1-25DA-4D6B-87AB-FBA37033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506B8-6490-4CE8-9873-B2BAF511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E56E2-1BAB-4CA3-810D-B9C84C64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15834-8779-4A40-81DF-A968446F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B4D61-4E67-4885-9847-E0B43DC835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67EF2-53BB-4CCF-AFD0-746325CA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E666A-28A1-4330-9A68-5EF2A55B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4C35A-D9A4-4C3D-8BE0-ED90F269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7378E-CB8C-4009-AF7A-3757CB92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88320-9AF6-4B6F-BBD8-E46934D8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1989D-FC4F-43F5-A1A5-9BE96097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F62FC-976A-4E1C-911B-D404C08D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367EA-D579-49C4-A70A-7FDA5DFC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EA79E-3DF4-4935-91E4-F90DC5A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C0D62-FFC7-4C29-95D2-0132909E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07683-6624-4A1C-AA43-42308F45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A2FB9-EE6B-4BA4-B479-5A72BA4B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97164-7180-4DC9-AE7D-D37BF971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F8F83-FE07-4615-B139-378E4FF2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01E8E-4377-4C4E-B146-9F410100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D5E8C-FA0C-4815-BA00-4AF4477A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CCC20-D67F-4FAC-AACB-7EFDBF00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7F801-0EEC-4BDE-A6E1-3ABEB3DD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113A49-58F5-4BB6-89EE-B9D48696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37900-FE3C-4444-BAB6-1376117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7E75E-34C5-4CDE-8544-4284A18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1F9A2-EAF7-462A-9080-4A04E841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08408-5C37-4491-A69C-4748FFA2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6660C-FF44-4518-B15C-74E10691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8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9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0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2A9E-17E1-4100-8489-C0CFBBF02A7B}" type="slidenum">
              <a:rPr b="0" lang="en-US" sz="10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psam_pg1NE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515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68c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65" name="Picture 6" descr="j0315558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j0315568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8" descr="j0315584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j0174862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10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1" name="Rectangle 17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BD4D-ED98-4ECF-AB30-1835151EE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4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2"/>
          <p:cNvSpPr/>
          <p:nvPr/>
        </p:nvSpPr>
        <p:spPr>
          <a:xfrm>
            <a:off x="-33480" y="-33480"/>
            <a:ext cx="9577440" cy="6818400"/>
          </a:xfrm>
          <a:prstGeom prst="pie">
            <a:avLst/>
          </a:prstGeom>
          <a:solidFill>
            <a:srgbClr val="504d80"/>
          </a:solidFill>
          <a:ln w="9360">
            <a:solidFill>
              <a:srgbClr val="504d80"/>
            </a:solidFill>
            <a:round/>
          </a:ln>
          <a:effectLst>
            <a:outerShdw dist="88920" dir="5400000" blurRad="0" rotWithShape="0">
              <a:srgbClr val="342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14" name="Group 8"/>
          <p:cNvGrpSpPr/>
          <p:nvPr/>
        </p:nvGrpSpPr>
        <p:grpSpPr>
          <a:xfrm>
            <a:off x="6076800" y="152280"/>
            <a:ext cx="2846520" cy="3312720"/>
            <a:chOff x="6076800" y="152280"/>
            <a:chExt cx="2846520" cy="3312720"/>
          </a:xfrm>
        </p:grpSpPr>
        <p:grpSp>
          <p:nvGrpSpPr>
            <p:cNvPr id="515" name="Group 9"/>
            <p:cNvGrpSpPr/>
            <p:nvPr/>
          </p:nvGrpSpPr>
          <p:grpSpPr>
            <a:xfrm>
              <a:off x="6076800" y="1291320"/>
              <a:ext cx="2172960" cy="2173680"/>
              <a:chOff x="6076800" y="1291320"/>
              <a:chExt cx="2172960" cy="2173680"/>
            </a:xfrm>
          </p:grpSpPr>
          <p:sp>
            <p:nvSpPr>
              <p:cNvPr id="516" name="AutoShape 10"/>
              <p:cNvSpPr/>
              <p:nvPr/>
            </p:nvSpPr>
            <p:spPr>
              <a:xfrm>
                <a:off x="6076800" y="1291320"/>
                <a:ext cx="2172960" cy="217368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17" name="AutoShape 11"/>
              <p:cNvSpPr/>
              <p:nvPr/>
            </p:nvSpPr>
            <p:spPr>
              <a:xfrm>
                <a:off x="6551280" y="1765800"/>
                <a:ext cx="1223280" cy="122616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12"/>
            <p:cNvGrpSpPr/>
            <p:nvPr/>
          </p:nvGrpSpPr>
          <p:grpSpPr>
            <a:xfrm>
              <a:off x="8146080" y="1549080"/>
              <a:ext cx="645480" cy="645840"/>
              <a:chOff x="8146080" y="1549080"/>
              <a:chExt cx="645480" cy="645840"/>
            </a:xfrm>
          </p:grpSpPr>
          <p:sp>
            <p:nvSpPr>
              <p:cNvPr id="519" name="AutoShape 13"/>
              <p:cNvSpPr/>
              <p:nvPr/>
            </p:nvSpPr>
            <p:spPr>
              <a:xfrm>
                <a:off x="8146080" y="1549080"/>
                <a:ext cx="645480" cy="64584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20" name="AutoShape 14"/>
              <p:cNvSpPr/>
              <p:nvPr/>
            </p:nvSpPr>
            <p:spPr>
              <a:xfrm>
                <a:off x="8287200" y="1690200"/>
                <a:ext cx="362880" cy="36324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5"/>
            <p:cNvGrpSpPr/>
            <p:nvPr/>
          </p:nvGrpSpPr>
          <p:grpSpPr>
            <a:xfrm>
              <a:off x="7448040" y="152280"/>
              <a:ext cx="1475280" cy="1475640"/>
              <a:chOff x="7448040" y="152280"/>
              <a:chExt cx="1475280" cy="1475640"/>
            </a:xfrm>
          </p:grpSpPr>
          <p:sp>
            <p:nvSpPr>
              <p:cNvPr id="522" name="AutoShape 16"/>
              <p:cNvSpPr/>
              <p:nvPr/>
            </p:nvSpPr>
            <p:spPr>
              <a:xfrm>
                <a:off x="7448040" y="152280"/>
                <a:ext cx="1475280" cy="147564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23" name="AutoShape 17"/>
              <p:cNvSpPr/>
              <p:nvPr/>
            </p:nvSpPr>
            <p:spPr>
              <a:xfrm>
                <a:off x="7769880" y="474480"/>
                <a:ext cx="830520" cy="83232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5000" y="1918080"/>
            <a:ext cx="7855920" cy="4029840"/>
          </a:xfrm>
          <a:prstGeom prst="rect">
            <a:avLst/>
          </a:prstGeom>
          <a:solidFill>
            <a:srgbClr val="504d80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4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5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6"/>
          </p:nvPr>
        </p:nvSpPr>
        <p:spPr>
          <a:xfrm>
            <a:off x="6876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2246-FD76-436C-AA98-7C02E6234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0D5F-ACEF-411C-A855-8C3586B3689B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titleslide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F9B1-FBBD-4B7C-85E7-34F9083344F2}" type="slidenum">
              <a:rPr b="0" lang="en-US" sz="10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psa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0A5B-B925-49B6-B3C5-1C5AF0F55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ftr" idx="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Num" idx="8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733-989A-4E88-812B-D1B99A6F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128" name="Picture 9" descr="j0315558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0" descr="j0315568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1" descr="j0315584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4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-17640" y="6222960"/>
            <a:ext cx="9172800" cy="662040"/>
          </a:xfrm>
          <a:prstGeom prst="pie">
            <a:avLst/>
          </a:prstGeom>
          <a:solidFill>
            <a:srgbClr val="504d80"/>
          </a:solidFill>
          <a:ln w="9360">
            <a:solidFill>
              <a:srgbClr val="504d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-33480" y="-44280"/>
            <a:ext cx="9580680" cy="2172960"/>
          </a:xfrm>
          <a:prstGeom prst="pie">
            <a:avLst/>
          </a:prstGeom>
          <a:solidFill>
            <a:srgbClr val="504d80"/>
          </a:solidFill>
          <a:ln w="9360">
            <a:solidFill>
              <a:srgbClr val="504d80"/>
            </a:solidFill>
            <a:round/>
          </a:ln>
          <a:effectLst>
            <a:outerShdw dist="88920" dir="5400000" blurRad="0" rotWithShape="0">
              <a:srgbClr val="342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27792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679464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9D45-79C5-4B03-8BA9-EE4D0D037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7"/>
          <p:cNvGrpSpPr/>
          <p:nvPr/>
        </p:nvGrpSpPr>
        <p:grpSpPr>
          <a:xfrm>
            <a:off x="7696080" y="5192640"/>
            <a:ext cx="1236960" cy="1440000"/>
            <a:chOff x="7696080" y="5192640"/>
            <a:chExt cx="1236960" cy="1440000"/>
          </a:xfrm>
        </p:grpSpPr>
        <p:grpSp>
          <p:nvGrpSpPr>
            <p:cNvPr id="175" name="Group 8"/>
            <p:cNvGrpSpPr/>
            <p:nvPr/>
          </p:nvGrpSpPr>
          <p:grpSpPr>
            <a:xfrm>
              <a:off x="7696080" y="5687640"/>
              <a:ext cx="944640" cy="945000"/>
              <a:chOff x="7696080" y="5687640"/>
              <a:chExt cx="944640" cy="945000"/>
            </a:xfrm>
          </p:grpSpPr>
          <p:sp>
            <p:nvSpPr>
              <p:cNvPr id="176" name="AutoShape 9"/>
              <p:cNvSpPr/>
              <p:nvPr/>
            </p:nvSpPr>
            <p:spPr>
              <a:xfrm>
                <a:off x="7696080" y="5687640"/>
                <a:ext cx="944640" cy="94500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7" name="AutoShape 10"/>
              <p:cNvSpPr/>
              <p:nvPr/>
            </p:nvSpPr>
            <p:spPr>
              <a:xfrm>
                <a:off x="7902360" y="5893920"/>
                <a:ext cx="531720" cy="53208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11"/>
            <p:cNvGrpSpPr/>
            <p:nvPr/>
          </p:nvGrpSpPr>
          <p:grpSpPr>
            <a:xfrm>
              <a:off x="8595360" y="5800320"/>
              <a:ext cx="281160" cy="281160"/>
              <a:chOff x="8595360" y="5800320"/>
              <a:chExt cx="281160" cy="281160"/>
            </a:xfrm>
          </p:grpSpPr>
          <p:sp>
            <p:nvSpPr>
              <p:cNvPr id="179" name="AutoShape 12"/>
              <p:cNvSpPr/>
              <p:nvPr/>
            </p:nvSpPr>
            <p:spPr>
              <a:xfrm>
                <a:off x="8595360" y="5800320"/>
                <a:ext cx="281160" cy="28116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8657280" y="5862240"/>
                <a:ext cx="157320" cy="15732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"/>
            <p:cNvGrpSpPr/>
            <p:nvPr/>
          </p:nvGrpSpPr>
          <p:grpSpPr>
            <a:xfrm>
              <a:off x="8291880" y="5192640"/>
              <a:ext cx="641160" cy="641520"/>
              <a:chOff x="8291880" y="5192640"/>
              <a:chExt cx="641160" cy="641520"/>
            </a:xfrm>
          </p:grpSpPr>
          <p:sp>
            <p:nvSpPr>
              <p:cNvPr id="182" name="AutoShape 15"/>
              <p:cNvSpPr/>
              <p:nvPr/>
            </p:nvSpPr>
            <p:spPr>
              <a:xfrm>
                <a:off x="8291880" y="5192640"/>
                <a:ext cx="641160" cy="64152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3" name="AutoShape 16"/>
              <p:cNvSpPr/>
              <p:nvPr/>
            </p:nvSpPr>
            <p:spPr>
              <a:xfrm>
                <a:off x="8431560" y="5331960"/>
                <a:ext cx="361800" cy="36180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75000" y="1918080"/>
            <a:ext cx="7855920" cy="4029840"/>
          </a:xfrm>
          <a:prstGeom prst="rect">
            <a:avLst/>
          </a:prstGeom>
          <a:solidFill>
            <a:srgbClr val="504d80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C63-930F-420E-A9F7-17187AD6B891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2ndslide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D56B-921E-44EA-8ED8-361A75743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92000" y="549360"/>
            <a:ext cx="7451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NALISA PULANG – POKOK </a:t>
            </a:r>
            <a:endParaRPr b="0" lang="en-US" sz="32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86920" y="1844280"/>
            <a:ext cx="741708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10000"/>
              </a:lnSpc>
              <a:spcBef>
                <a:spcPts val="19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cf48c"/>
                </a:solidFill>
                <a:latin typeface="Arial Narrow"/>
              </a:rPr>
              <a:t>Unsur dasar analisa pulang – pokok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452520" indent="-452520">
              <a:lnSpc>
                <a:spcPct val="110000"/>
              </a:lnSpc>
              <a:spcBef>
                <a:spcPts val="19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cf48c"/>
                </a:solidFill>
                <a:latin typeface="Arial Narrow"/>
              </a:rPr>
              <a:t>Tipe analisa pulang – pokok yg ada bagi wirausahawan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452520" indent="-452520">
              <a:lnSpc>
                <a:spcPct val="110000"/>
              </a:lnSpc>
              <a:spcBef>
                <a:spcPts val="1925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cf48c"/>
                </a:solidFill>
                <a:latin typeface="Arial Narrow"/>
              </a:rPr>
              <a:t>Hubungan antara analisa pulang – pokok dg pegnawasan 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452520" indent="-452520">
              <a:lnSpc>
                <a:spcPct val="110000"/>
              </a:lnSpc>
              <a:spcBef>
                <a:spcPts val="1925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cf48c"/>
                </a:solidFill>
                <a:latin typeface="Arial Narrow"/>
              </a:rPr>
              <a:t>Keterbatasan analisa pulang - pokok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 MENCARI SUMBER MODAL USAH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58560" y="2420640"/>
            <a:ext cx="742788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 MT"/>
              </a:rPr>
              <a:t>PRIBAD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 MT"/>
              </a:rPr>
              <a:t>PREFERENSI INVES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. BERHUBUNGAN DENGAN PEMOD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880" y="2060640"/>
            <a:ext cx="838224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Resiko yg dihindari investor: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81ca6a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Resiko tidak dikenalnya wirausahawan yg mungkin menyebabkan hilangnya moda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81ca6a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Resiko hilangnya waktu yg digunakan untuk proyek yg tdk produktif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68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68" fill="hold"/>
                                        <p:tgtEl>
                                          <p:spTgt spid="7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68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68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Bentuk investasi yg dipilih pemodal biasanya adl “SURAT HUTANG” (debenture) yg bisa dikonversi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Yaitu instrumen hutang yg mempunyai syarat-syarat melindungi tetapi tanpa jaminan aktiva dan bisa dikonversikan dg saham pada harga konversi tertentu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Penentuan jumlah kepemilikan &amp; penentuan harga dari saham untuk menstruktur penawaran yg menarik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entury Gothic"/>
              </a:rPr>
              <a:t>METODE PERKALIAN HARGA / PENDAPATAN PERTAMA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membandingkan perusahan dg perusahaan pemerintah yg sama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entury Gothic"/>
              </a:rPr>
              <a:t>METODE TINGKAT HASIL (RATE OF RETURN)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perkiraan luas jangkauan (range) tingkat hasil yg diperlukan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68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68" fill="hold"/>
                                        <p:tgtEl>
                                          <p:spTgt spid="7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68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ENILAIAN PERUSAHAA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fat &amp; sejarah dari bisn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ondisi perekonomian pada umumnya maupun kondisi dari industr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ilai buku (nilai bersih) dari saham dan kondisi finansial keseluruhan dari perusaha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mampuan untuk menghasilkan pendapatan di masa depan dari perusaha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mampuan membayar deviden dari perusaha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nilaian dari hubungan baik dan harga tak kentara dari usaha terseb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nilaian penjualan sah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rga pasar dari perusahaan yg terlibat dalam jenis usaha yg sama atau identi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’rima kasih…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5" name="Picture 4" descr="5091873"/>
          <p:cNvPicPr/>
          <p:nvPr/>
        </p:nvPicPr>
        <p:blipFill>
          <a:blip r:embed="rId1"/>
          <a:stretch/>
        </p:blipFill>
        <p:spPr>
          <a:xfrm>
            <a:off x="2771640" y="2133720"/>
            <a:ext cx="3313080" cy="30970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sun_beachball"/>
          <p:cNvPicPr/>
          <p:nvPr/>
        </p:nvPicPr>
        <p:blipFill>
          <a:blip r:embed="rId2"/>
          <a:stretch/>
        </p:blipFill>
        <p:spPr>
          <a:xfrm>
            <a:off x="792000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2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5" descr="4970389"/>
          <p:cNvPicPr/>
          <p:nvPr/>
        </p:nvPicPr>
        <p:blipFill>
          <a:blip r:embed="rId1"/>
          <a:stretch/>
        </p:blipFill>
        <p:spPr>
          <a:xfrm>
            <a:off x="8028000" y="18900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" descr="j0236360"/>
          <p:cNvPicPr/>
          <p:nvPr/>
        </p:nvPicPr>
        <p:blipFill>
          <a:blip r:embed="rId2"/>
          <a:stretch/>
        </p:blipFill>
        <p:spPr>
          <a:xfrm>
            <a:off x="146160" y="760320"/>
            <a:ext cx="3562200" cy="7632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UNSUR DASAR ANALISA PULANG - POKOK</a:t>
            </a:r>
            <a:endParaRPr b="0" lang="en-US" sz="2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240" y="134100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Biaya Tetap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Pengeluaran yg diadakan tanpa melihat jml produk yg dihasilkan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Biaya Variabel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pengeluaran yg berfluktuasi dg jml produk yg dihasilkan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Biaya Total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jml total biaya tetap &amp; biaya variabel yg berkaitan dg produksi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Pendapatan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Total : semua nilai rupiah penjualan yg terakumulasi dr penjualan produk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Keuntungan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jml pendapatan total yg melebihi biaya total dr produksi barang yg dijual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Kerugian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jml biaya total produksi barang yg melebihi pendapatan total yg d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i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peroleh dr penjualan barang tsb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Titik Pulang Pokok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situasi dimana pendapatan total = biaya totalnya, 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sehingga 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cukup utk menutup biaya-biayanya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50560" y="255240"/>
            <a:ext cx="8497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2 PROSEDUR MENENTUKA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ITIK PULANG - POKOK </a:t>
            </a:r>
            <a:endParaRPr b="1" lang="en-US" sz="32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971640" y="2276640"/>
            <a:ext cx="7343640" cy="42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362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743040" indent="-362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ALISA PULANG – POKOK ALJABA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743040" indent="-362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743040" indent="-362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ALISA PULANG – POKOK GRAFIK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743040" indent="-362160">
              <a:lnSpc>
                <a:spcPct val="90000"/>
              </a:lnSpc>
              <a:spcBef>
                <a:spcPts val="700"/>
              </a:spcBef>
              <a:buClr>
                <a:srgbClr val="839ee3"/>
              </a:buClr>
              <a:buFont typeface="Arial"/>
              <a:buAutoNum type="arabicPeriod"/>
              <a:tabLst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743040" indent="-362160">
              <a:lnSpc>
                <a:spcPct val="90000"/>
              </a:lnSpc>
              <a:spcBef>
                <a:spcPts val="700"/>
              </a:spcBef>
              <a:buClr>
                <a:srgbClr val="839ee3"/>
              </a:buClr>
              <a:buFont typeface="Arial"/>
              <a:buAutoNum type="arabicPeriod"/>
              <a:tabLst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8700"/>
                </a:solidFill>
                <a:latin typeface="Arial Narrow"/>
              </a:rPr>
              <a:t>ANALISA PULANG – POKOK ALJABAR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00040" y="99972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BE 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=     FC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P – VC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Dimana :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BE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T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itik 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Produksi dimana perushaan mengalami T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itik Pulang Pokok. (Break Even Point atau BE)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FC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Biaya tetap produksi total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 (Fixed Cost)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harga tiap unit 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barang yang dijual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VC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Bi. Variabel yg berkaitan dg tiap produk yg 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dihasilkan dan dijual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 (Variable Cost)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4" name="Line 4"/>
          <p:cNvSpPr/>
          <p:nvPr/>
        </p:nvSpPr>
        <p:spPr>
          <a:xfrm>
            <a:off x="1785960" y="2143080"/>
            <a:ext cx="1079640" cy="0"/>
          </a:xfrm>
          <a:prstGeom prst="line">
            <a:avLst/>
          </a:prstGeom>
          <a:ln cap="sq" w="12600">
            <a:solidFill>
              <a:srgbClr val="fcf4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ontoh..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7696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Sebuah perusahaan penerbit buku teks bisa menghadapi biaya tetap dan viaya varibel per buku teks spt yg disajikan pada tabel.  Penerbit ingin menjual tiap buku teks seharga Rp. 12.000,-.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Hitung titik pulang – pokok untuk penerbi tsb!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600" spc="-1" strike="noStrike">
              <a:solidFill>
                <a:srgbClr val="8a8700"/>
              </a:solidFill>
              <a:latin typeface="Arial Black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rcRect l="8790" t="20411" r="7940" b="28518"/>
          <a:stretch/>
        </p:blipFill>
        <p:spPr>
          <a:xfrm>
            <a:off x="755640" y="1413000"/>
            <a:ext cx="7812000" cy="444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8700"/>
                </a:solidFill>
                <a:latin typeface="Arial Narrow"/>
              </a:rPr>
              <a:t>ANALISA PULANG – POKOK GRAFIK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pic>
        <p:nvPicPr>
          <p:cNvPr id="700" name="Picture 4" descr=""/>
          <p:cNvPicPr/>
          <p:nvPr/>
        </p:nvPicPr>
        <p:blipFill>
          <a:blip r:embed="rId1"/>
          <a:srcRect l="20477" t="21465" r="17513" b="12586"/>
          <a:stretch/>
        </p:blipFill>
        <p:spPr>
          <a:xfrm>
            <a:off x="1116000" y="134136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75000" y="1918080"/>
            <a:ext cx="7855920" cy="4029840"/>
          </a:xfrm>
          <a:prstGeom prst="rect">
            <a:avLst/>
          </a:prstGeom>
          <a:solidFill>
            <a:srgbClr val="504d8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alisa pulang – pokok adalah alat pengawasan yg berguna didalam membantu wirausahawan utk mengerti hubungan antara biaya tetap, b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iaya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variabel, b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iaya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total, keuntungan &amp; kerug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engaruh d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b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iaya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tetap &amp; b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iaya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variabel yg meningkat &amp; penurunan harga jual pd titik pulang – pokok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600" spc="-1" strike="noStrike">
              <a:solidFill>
                <a:srgbClr val="8a8700"/>
              </a:solidFill>
              <a:latin typeface="Arial Black"/>
            </a:endParaRPr>
          </a:p>
        </p:txBody>
      </p:sp>
      <p:pic>
        <p:nvPicPr>
          <p:cNvPr id="704" name="Picture 3" descr=""/>
          <p:cNvPicPr/>
          <p:nvPr/>
        </p:nvPicPr>
        <p:blipFill>
          <a:blip r:embed="rId1"/>
          <a:srcRect l="19082" t="14003" r="21042" b="68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05:26:20Z</dcterms:created>
  <dc:creator>Ronny S. S.</dc:creator>
  <dc:description/>
  <dc:language>en-US</dc:language>
  <cp:lastModifiedBy>compaq</cp:lastModifiedBy>
  <dcterms:modified xsi:type="dcterms:W3CDTF">2012-04-18T12:42:46Z</dcterms:modified>
  <cp:revision>130</cp:revision>
  <dc:subject/>
  <dc:title>KULIAH  - 4</dc:title>
</cp:coreProperties>
</file>